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55.jpeg" ContentType="image/jpeg"/>
  <Override PartName="/ppt/media/image53.png" ContentType="image/png"/>
  <Override PartName="/ppt/media/image56.jpeg" ContentType="image/jpeg"/>
  <Override PartName="/ppt/media/image48.jpeg" ContentType="image/jpeg"/>
  <Override PartName="/ppt/media/image47.jpeg" ContentType="image/jpeg"/>
  <Override PartName="/ppt/media/image45.jpeg" ContentType="image/jpeg"/>
  <Override PartName="/ppt/media/image44.jpeg" ContentType="image/jpeg"/>
  <Override PartName="/ppt/media/image34.jpeg" ContentType="image/jpeg"/>
  <Override PartName="/ppt/media/image33.png" ContentType="image/png"/>
  <Override PartName="/ppt/media/image32.jpeg" ContentType="image/jpeg"/>
  <Override PartName="/ppt/media/image31.jpeg" ContentType="image/jpe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38.jpeg" ContentType="image/jpeg"/>
  <Override PartName="/ppt/media/image72.png" ContentType="image/png"/>
  <Override PartName="/ppt/media/image97.jpeg" ContentType="image/jpeg"/>
  <Override PartName="/ppt/media/image7.jpeg" ContentType="image/jpeg"/>
  <Override PartName="/ppt/media/image4.png" ContentType="image/png"/>
  <Override PartName="/ppt/media/image81.png" ContentType="image/png"/>
  <Override PartName="/ppt/media/image51.jpeg" ContentType="image/jpeg"/>
  <Override PartName="/ppt/media/image28.jpeg" ContentType="image/jpeg"/>
  <Override PartName="/ppt/media/image87.jpeg" ContentType="image/jpeg"/>
  <Override PartName="/ppt/media/image39.jpeg" ContentType="image/jpeg"/>
  <Override PartName="/ppt/media/image5.png" ContentType="image/png"/>
  <Override PartName="/ppt/media/image98.jpeg" ContentType="image/jpeg"/>
  <Override PartName="/ppt/media/image8.png" ContentType="image/png"/>
  <Override PartName="/ppt/media/image23.jpeg" ContentType="image/jpeg"/>
  <Override PartName="/ppt/media/image82.jpeg" ContentType="image/jpeg"/>
  <Override PartName="/ppt/media/image85.png" ContentType="image/png"/>
  <Override PartName="/ppt/media/image54.png" ContentType="image/png"/>
  <Override PartName="/ppt/media/image76.jpeg" ContentType="image/jpeg"/>
  <Override PartName="/ppt/media/image41.jpeg" ContentType="image/jpeg"/>
  <Override PartName="/ppt/media/image22.png" ContentType="image/png"/>
  <Override PartName="/ppt/media/image24.jpeg" ContentType="image/jpeg"/>
  <Override PartName="/ppt/media/image83.jpeg" ContentType="image/jpeg"/>
  <Override PartName="/ppt/media/image95.png" ContentType="image/pn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77.png" ContentType="image/png"/>
  <Override PartName="/ppt/media/image25.jpeg" ContentType="image/jpeg"/>
  <Override PartName="/ppt/media/image8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6.jpeg" ContentType="image/jpeg"/>
  <Override PartName="/ppt/media/image69.png" ContentType="image/png"/>
  <Override PartName="/ppt/media/image67.jpeg" ContentType="image/jpeg"/>
  <Override PartName="/ppt/media/image68.jpeg" ContentType="image/jpeg"/>
  <Override PartName="/ppt/media/image79.png" ContentType="image/png"/>
  <Override PartName="/ppt/media/image26.jpeg" ContentType="image/jpeg"/>
  <Override PartName="/ppt/media/image93.jpeg" ContentType="image/jpeg"/>
  <Override PartName="/ppt/media/image91.png" ContentType="image/png"/>
  <Override PartName="/ppt/media/image12.png" ContentType="image/png"/>
  <Override PartName="/ppt/media/image94.jpeg" ContentType="image/jpeg"/>
  <Override PartName="/ppt/media/image74.jpeg" ContentType="image/jpeg"/>
  <Override PartName="/ppt/media/image96.jpeg" ContentType="image/jpeg"/>
  <Override PartName="/ppt/media/image92.jpeg" ContentType="image/jpeg"/>
  <Override PartName="/ppt/media/image49.png" ContentType="image/png"/>
  <Override PartName="/ppt/media/image65.jpeg" ContentType="image/jpeg"/>
  <Override PartName="/ppt/media/image75.jpeg" ContentType="image/jpeg"/>
  <Override PartName="/ppt/media/image73.jpeg" ContentType="image/jpeg"/>
  <Override PartName="/ppt/media/image71.jpeg" ContentType="image/jpeg"/>
  <Override PartName="/ppt/media/image70.jpeg" ContentType="image/jpeg"/>
  <Override PartName="/ppt/media/image43.jpeg" ContentType="image/jpeg"/>
  <Override PartName="/ppt/media/image80.jpeg" ContentType="image/jpeg"/>
  <Override PartName="/ppt/media/image21.jpeg" ContentType="image/jpeg"/>
  <Override PartName="/ppt/media/image36.gif" ContentType="image/gif"/>
  <Override PartName="/ppt/media/image6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8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88.jpeg" ContentType="image/jpeg"/>
  <Override PartName="/ppt/media/image29.jpeg" ContentType="image/jpeg"/>
  <Override PartName="/ppt/media/image52.jpeg" ContentType="image/jpeg"/>
  <Override PartName="/ppt/media/image2.jpeg" ContentType="image/jpeg"/>
  <Override PartName="/ppt/media/image13.jpeg" ContentType="image/jpeg"/>
  <Override PartName="/ppt/media/image40.jpeg" ContentType="image/jpeg"/>
  <Override PartName="/ppt/media/image86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02E6-CB4A-4044-87B7-2763B97A1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36AD-62CF-48CA-B796-5DC6FEE81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83C-71BA-4649-8A83-AAA12251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67A7-8929-4E26-A4F0-578C8706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232E-144E-48BD-B538-565AA75F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C83-6922-46F3-9267-8E82065C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544D-F72E-4242-9D85-C3854070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A903-ACDA-4D07-AFA0-FEA721C1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DE2B-25F6-471B-9CC3-0A19635A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943B-F81E-49CC-BD60-7F85FC5C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7CC-FED5-4DCC-97C7-73EED37B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D2F6-0CE6-4B2E-9B20-B6B061AE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A48-9262-46F3-BF78-DD6424A2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C24-3DF9-4552-85DB-E1CF41A0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810F-58B9-4B21-BAE7-12E44F0EF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" Target="slide34.xml"/><Relationship Id="rId4" Type="http://schemas.openxmlformats.org/officeDocument/2006/relationships/slide" Target="slide50.xml"/><Relationship Id="rId5" Type="http://schemas.openxmlformats.org/officeDocument/2006/relationships/slide" Target="slide66.xml"/><Relationship Id="rId6" Type="http://schemas.openxmlformats.org/officeDocument/2006/relationships/slide" Target="slide82.xml"/><Relationship Id="rId7" Type="http://schemas.openxmlformats.org/officeDocument/2006/relationships/slide" Target="slide98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image" Target="../media/image94.jpe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image" Target="../media/image95.png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hyperlink" Target="http://images.google.co.uk/imgres?imgurl=http://www.securitypolicy.co.uk/riskanalysis/scales.jpg&amp;imgrefurl=http://www.securitypolicy.co.uk/riskanalysis/&amp;usg=__jsXAkC0W0tptUyEdO_-w4RO7xCM=&amp;h=537&amp;w=552&amp;sz=25&amp;hl=en&amp;start=6&amp;tbnid=DcrEwh7J7Ow6LM:&amp;tbnh=129&amp;tbnw=133&amp;prev=/images%3Fq%3DAnalysis%26gbv%3D2%26ndsp%3D20%26hl%3Den" TargetMode="External"/><Relationship Id="rId3" Type="http://schemas.openxmlformats.org/officeDocument/2006/relationships/image" Target="../media/image96.jpeg"/><Relationship Id="rId4" Type="http://schemas.openxmlformats.org/officeDocument/2006/relationships/slide" Target="slide50.xml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hyperlink" Target="http://images.google.co.uk/imgres?imgurl=http://chemweb.ucc.ie/ABCRF/images/Synthesis3.jpg&amp;imgrefurl=http://chemweb.ucc.ie/ABCRF/synthesis4.htm&amp;usg=__I_P6lsIf4lhy26LkmEi4vdgKKjc=&amp;h=1265&amp;w=600&amp;sz=107&amp;hl=en&amp;start=7&amp;tbnid=LpjBCViLCui88M:&amp;tbnh=150&amp;tbnw=71&amp;prev=/images%3Fq%3Dsynthesis%26gbv%3D2%26hl%3Den" TargetMode="External"/><Relationship Id="rId3" Type="http://schemas.openxmlformats.org/officeDocument/2006/relationships/image" Target="../media/image97.jpeg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hyperlink" Target="http://images.google.co.uk/imgres?imgurl=http://dolphinsoftware.files.wordpress.com/2009/05/evaluation.jpg&amp;imgrefurl=http://dolphinsoftware.wordpress.com/2009/05/21/pricewaterhousecoopers-criteria-for-selecting-an-enterprise-contract-management-solution/&amp;usg=__jl8E-2NlW8cyfC9N6YZ6D6qmh4A=&amp;h=396&amp;w=350&amp;sz=24&amp;hl=en&amp;start=2&amp;tbnid=fQ1Vow7kUnd1PM:&amp;tbnh=124&amp;tbnw=110&amp;prev=/images%3Fq%3Devaluation%26gbv%3D2%26hl%3Den" TargetMode="External"/><Relationship Id="rId3" Type="http://schemas.openxmlformats.org/officeDocument/2006/relationships/image" Target="../media/image98.jpeg"/><Relationship Id="rId4" Type="http://schemas.openxmlformats.org/officeDocument/2006/relationships/slide" Target="slide82.xml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27.xml"/><Relationship Id="rId11" Type="http://schemas.openxmlformats.org/officeDocument/2006/relationships/slide" Target="slide28.xml"/><Relationship Id="rId12" Type="http://schemas.openxmlformats.org/officeDocument/2006/relationships/slide" Target="slide29.xml"/><Relationship Id="rId13" Type="http://schemas.openxmlformats.org/officeDocument/2006/relationships/slide" Target="slide30.xml"/><Relationship Id="rId14" Type="http://schemas.openxmlformats.org/officeDocument/2006/relationships/slide" Target="slide31.xml"/><Relationship Id="rId15" Type="http://schemas.openxmlformats.org/officeDocument/2006/relationships/slide" Target="slide32.xml"/><Relationship Id="rId16" Type="http://schemas.openxmlformats.org/officeDocument/2006/relationships/slide" Target="slide33.xml"/><Relationship Id="rId17" Type="http://schemas.openxmlformats.org/officeDocument/2006/relationships/slide" Target="slide100.xml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99.xml"/><Relationship Id="rId18" Type="http://schemas.openxmlformats.org/officeDocument/2006/relationships/slide" Target="slide105.xml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5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38.xml"/><Relationship Id="rId6" Type="http://schemas.openxmlformats.org/officeDocument/2006/relationships/slide" Target="slide39.xml"/><Relationship Id="rId7" Type="http://schemas.openxmlformats.org/officeDocument/2006/relationships/slide" Target="slide40.xml"/><Relationship Id="rId8" Type="http://schemas.openxmlformats.org/officeDocument/2006/relationships/slide" Target="slide41.xml"/><Relationship Id="rId9" Type="http://schemas.openxmlformats.org/officeDocument/2006/relationships/slide" Target="slide42.xml"/><Relationship Id="rId10" Type="http://schemas.openxmlformats.org/officeDocument/2006/relationships/slide" Target="slide43.xml"/><Relationship Id="rId11" Type="http://schemas.openxmlformats.org/officeDocument/2006/relationships/slide" Target="slide44.xml"/><Relationship Id="rId12" Type="http://schemas.openxmlformats.org/officeDocument/2006/relationships/slide" Target="slide45.xml"/><Relationship Id="rId13" Type="http://schemas.openxmlformats.org/officeDocument/2006/relationships/slide" Target="slide46.xml"/><Relationship Id="rId14" Type="http://schemas.openxmlformats.org/officeDocument/2006/relationships/slide" Target="slide47.xml"/><Relationship Id="rId15" Type="http://schemas.openxmlformats.org/officeDocument/2006/relationships/slide" Target="slide48.xml"/><Relationship Id="rId16" Type="http://schemas.openxmlformats.org/officeDocument/2006/relationships/slide" Target="slide49.xml"/><Relationship Id="rId17" Type="http://schemas.openxmlformats.org/officeDocument/2006/relationships/slide" Target="slide101.xml"/><Relationship Id="rId1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1.xml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slide" Target="slide54.xml"/><Relationship Id="rId6" Type="http://schemas.openxmlformats.org/officeDocument/2006/relationships/slide" Target="slide55.xml"/><Relationship Id="rId7" Type="http://schemas.openxmlformats.org/officeDocument/2006/relationships/slide" Target="slide56.xml"/><Relationship Id="rId8" Type="http://schemas.openxmlformats.org/officeDocument/2006/relationships/slide" Target="slide57.xml"/><Relationship Id="rId9" Type="http://schemas.openxmlformats.org/officeDocument/2006/relationships/slide" Target="slide58.xml"/><Relationship Id="rId10" Type="http://schemas.openxmlformats.org/officeDocument/2006/relationships/slide" Target="slide59.xml"/><Relationship Id="rId11" Type="http://schemas.openxmlformats.org/officeDocument/2006/relationships/slide" Target="slide60.xml"/><Relationship Id="rId12" Type="http://schemas.openxmlformats.org/officeDocument/2006/relationships/slide" Target="slide61.xml"/><Relationship Id="rId13" Type="http://schemas.openxmlformats.org/officeDocument/2006/relationships/slide" Target="slide62.xml"/><Relationship Id="rId14" Type="http://schemas.openxmlformats.org/officeDocument/2006/relationships/slide" Target="slide63.xml"/><Relationship Id="rId15" Type="http://schemas.openxmlformats.org/officeDocument/2006/relationships/slide" Target="slide64.xml"/><Relationship Id="rId16" Type="http://schemas.openxmlformats.org/officeDocument/2006/relationships/slide" Target="slide65.xml"/><Relationship Id="rId17" Type="http://schemas.openxmlformats.org/officeDocument/2006/relationships/slide" Target="slide102.xml"/><Relationship Id="rId1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photoindustrie-verband.de/img/dq/DQ-Tool_Contrast_e.jpg&amp;imgrefurl=http://www.photoindustrie-verband.de/en/archiv/druckparser.php%3Fpars%3Ddq.htm&amp;usg=__H6Wo9aHGLxkhex_S6RzK76VhApU=&amp;h=768&amp;w=1024&amp;sz=103&amp;hl=en&amp;start=1&amp;tbnid=2d6QnocVM6z8-M:&amp;tbnh=113&amp;tbnw=150&amp;prev=/images%3Fq%3Dcontrast%26gbv%3D2%26hl%3Den" TargetMode="External"/><Relationship Id="rId2" Type="http://schemas.openxmlformats.org/officeDocument/2006/relationships/image" Target="../media/image50.jpeg"/><Relationship Id="rId3" Type="http://schemas.openxmlformats.org/officeDocument/2006/relationships/slide" Target=""/><Relationship Id="rId4" Type="http://schemas.openxmlformats.org/officeDocument/2006/relationships/slide" Target="slide50.xml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slide" Target="slide70.xml"/><Relationship Id="rId6" Type="http://schemas.openxmlformats.org/officeDocument/2006/relationships/slide" Target="slide71.xml"/><Relationship Id="rId7" Type="http://schemas.openxmlformats.org/officeDocument/2006/relationships/slide" Target="slide72.xml"/><Relationship Id="rId8" Type="http://schemas.openxmlformats.org/officeDocument/2006/relationships/slide" Target="slide73.xml"/><Relationship Id="rId9" Type="http://schemas.openxmlformats.org/officeDocument/2006/relationships/slide" Target="slide74.xml"/><Relationship Id="rId10" Type="http://schemas.openxmlformats.org/officeDocument/2006/relationships/slide" Target="slide75.xml"/><Relationship Id="rId11" Type="http://schemas.openxmlformats.org/officeDocument/2006/relationships/slide" Target="slide76.xml"/><Relationship Id="rId12" Type="http://schemas.openxmlformats.org/officeDocument/2006/relationships/slide" Target="slide77.xml"/><Relationship Id="rId13" Type="http://schemas.openxmlformats.org/officeDocument/2006/relationships/slide" Target="slide78.xml"/><Relationship Id="rId14" Type="http://schemas.openxmlformats.org/officeDocument/2006/relationships/slide" Target="slide79.xml"/><Relationship Id="rId15" Type="http://schemas.openxmlformats.org/officeDocument/2006/relationships/slide" Target="slide80.xml"/><Relationship Id="rId16" Type="http://schemas.openxmlformats.org/officeDocument/2006/relationships/slide" Target="slide81.xml"/><Relationship Id="rId17" Type="http://schemas.openxmlformats.org/officeDocument/2006/relationships/slide" Target="slide103.xml"/><Relationship Id="rId1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academic.brooklyn.cuny.edu/geology/leveson/core/graphics/nyc_mins2/qmarks.gif&amp;imgrefurl=http://academic.brooklyn.cuny.edu/geology/leveson/core/graphics/nyc_mins2/hyp_choose.html&amp;usg=__UB17EsBQ7DCiv-9x6npdrKgpKpg=&amp;h=1000&amp;w=300&amp;sz=5&amp;hl=en&amp;start=2&amp;tbnid=w4NiTouVXYJ22M:&amp;tbnh=149&amp;tbnw=45&amp;prev=/images%3Fq%3Dhypothesis%26gbv%3D2%26hl%3Den" TargetMode="External"/><Relationship Id="rId2" Type="http://schemas.openxmlformats.org/officeDocument/2006/relationships/image" Target="../media/image68.jpeg"/><Relationship Id="rId3" Type="http://schemas.openxmlformats.org/officeDocument/2006/relationships/slide" Target="slide66.xml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sf.be/images/uploads/Image/ASF%2520en%2520action/organiser_evenement.jpg&amp;imgrefurl=http://www.asf.be/index.php%3Fmodule%3Dhoehelpen%26lang%3Den%26id%3D163&amp;usg=__zmUXBRHPcHq8LfjZGUz45HJ5hRE=&amp;h=1377&amp;w=1916&amp;sz=576&amp;hl=en&amp;start=10&amp;tbnid=AgUl-NjROH_GUM:&amp;tbnh=108&amp;tbnw=150&amp;prev=/images%3Fq%3Dorganise%26gbv%3D2%26hl%3Den" TargetMode="External"/><Relationship Id="rId2" Type="http://schemas.openxmlformats.org/officeDocument/2006/relationships/image" Target="../media/image71.jpeg"/><Relationship Id="rId3" Type="http://schemas.openxmlformats.org/officeDocument/2006/relationships/slide" Target="slide66.xml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" Target="slide86.xml"/><Relationship Id="rId6" Type="http://schemas.openxmlformats.org/officeDocument/2006/relationships/slide" Target="slide87.xml"/><Relationship Id="rId7" Type="http://schemas.openxmlformats.org/officeDocument/2006/relationships/slide" Target="slide88.xml"/><Relationship Id="rId8" Type="http://schemas.openxmlformats.org/officeDocument/2006/relationships/slide" Target="slide89.xml"/><Relationship Id="rId9" Type="http://schemas.openxmlformats.org/officeDocument/2006/relationships/slide" Target="slide90.xml"/><Relationship Id="rId10" Type="http://schemas.openxmlformats.org/officeDocument/2006/relationships/slide" Target="slide91.xml"/><Relationship Id="rId11" Type="http://schemas.openxmlformats.org/officeDocument/2006/relationships/slide" Target="slide92.xml"/><Relationship Id="rId12" Type="http://schemas.openxmlformats.org/officeDocument/2006/relationships/slide" Target="slide93.xml"/><Relationship Id="rId13" Type="http://schemas.openxmlformats.org/officeDocument/2006/relationships/slide" Target="slide94.xml"/><Relationship Id="rId14" Type="http://schemas.openxmlformats.org/officeDocument/2006/relationships/slide" Target="slide95.xml"/><Relationship Id="rId15" Type="http://schemas.openxmlformats.org/officeDocument/2006/relationships/slide" Target="slide96.xml"/><Relationship Id="rId16" Type="http://schemas.openxmlformats.org/officeDocument/2006/relationships/slide" Target="slide97.xml"/><Relationship Id="rId17" Type="http://schemas.openxmlformats.org/officeDocument/2006/relationships/slide" Target="slide104.xml"/><Relationship Id="rId18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home1inspectionllc.com/inspect.gif&amp;imgrefurl=http://www.home1inspectionllc.com/process.htm&amp;usg=__W_U9f4DL3nWuTrp55-y5oJvHk_k=&amp;h=360&amp;w=319&amp;sz=49&amp;hl=en&amp;start=1&amp;tbnid=-daobgFzxUiUgM:&amp;tbnh=121&amp;tbnw=107&amp;prev=/images%3Fq%3Dinspect%26gbv%3D2%26hl%3Den" TargetMode="External"/><Relationship Id="rId2" Type="http://schemas.openxmlformats.org/officeDocument/2006/relationships/image" Target="../media/image83.jpeg"/><Relationship Id="rId3" Type="http://schemas.openxmlformats.org/officeDocument/2006/relationships/slide" Target="slide82.xml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techliberation.com/wp-content/uploads/2009/01/judge.jpg&amp;imgrefurl=http://techliberation.com/2009/01/23/pilot-program-to-improve-patent-litigation/&amp;usg=__NgV3SslmD5YD3P00x8BtfefcZck=&amp;h=300&amp;w=400&amp;sz=44&amp;hl=en&amp;start=2&amp;tbnid=IFBEIja22beKcM:&amp;tbnh=93&amp;tbnw=124&amp;prev=/images%3Fq%3Djudge%26gbv%3D2%26hl%3Den" TargetMode="External"/><Relationship Id="rId2" Type="http://schemas.openxmlformats.org/officeDocument/2006/relationships/image" Target="../media/image84.jpeg"/><Relationship Id="rId3" Type="http://schemas.openxmlformats.org/officeDocument/2006/relationships/slide" Target="slide82.xml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image.examiner.com/images/blog/wysiwyg/image/Thumbs_Down.gif&amp;imgrefurl=http://www.examiner.com/x-5942-Oklahoma-City-MMORPG-Examiner~y2009m4d11-Internet-subscription-based-on-usage&amp;usg=__DxJJ3w0GE4WB3bCZBhKECQXpTj0=&amp;h=408&amp;w=382&amp;sz=6&amp;hl=en&amp;start=33&amp;tbnid=Vxlnr14qnkLx3M:&amp;tbnh=125&amp;tbnw=117&amp;prev=/images%3Fq%3Drate%2Bthumbs%26gbv%3D2%26ndsp%3D18%26hl%3Den%26sa%3DN%26start%3D18" TargetMode="External"/><Relationship Id="rId2" Type="http://schemas.openxmlformats.org/officeDocument/2006/relationships/image" Target="../media/image87.jpeg"/><Relationship Id="rId3" Type="http://schemas.openxmlformats.org/officeDocument/2006/relationships/hyperlink" Target="http://images.google.co.uk/imgres?imgurl=http://image.examiner.com/images/blog/wysiwyg/image/Thumbs_Down.gif&amp;imgrefurl=http://www.examiner.com/x-5942-Oklahoma-City-MMORPG-Examiner~y2009m4d11-Internet-subscription-based-on-usage&amp;usg=__DxJJ3w0GE4WB3bCZBhKECQXpTj0=&amp;h=408&amp;w=382&amp;sz=6&amp;hl=en&amp;start=33&amp;tbnid=Vxlnr14qnkLx3M:&amp;tbnh=125&amp;tbnw=117&amp;prev=/images%3Fq%3Drate%2Bthumbs%26gbv%3D2%26ndsp%3D18%26hl%3Den%26sa%3DN%26start%3D18" TargetMode="External"/><Relationship Id="rId4" Type="http://schemas.openxmlformats.org/officeDocument/2006/relationships/image" Target="../media/image88.jpeg"/><Relationship Id="rId5" Type="http://schemas.openxmlformats.org/officeDocument/2006/relationships/hyperlink" Target="http://images.google.co.uk/imgres?imgurl=http://image.examiner.com/images/blog/wysiwyg/image/Thumbs_Down.gif&amp;imgrefurl=http://www.examiner.com/x-5942-Oklahoma-City-MMORPG-Examiner~y2009m4d11-Internet-subscription-based-on-usage&amp;usg=__DxJJ3w0GE4WB3bCZBhKECQXpTj0=&amp;h=408&amp;w=382&amp;sz=6&amp;hl=en&amp;start=33&amp;tbnid=Vxlnr14qnkLx3M:&amp;tbnh=125&amp;tbnw=117&amp;prev=/images%3Fq%3Drate%2Bthumbs%26gbv%3D2%26ndsp%3D18%26hl%3Den%26sa%3DN%26start%3D18" TargetMode="External"/><Relationship Id="rId6" Type="http://schemas.openxmlformats.org/officeDocument/2006/relationships/image" Target="../media/image89.jpeg"/><Relationship Id="rId7" Type="http://schemas.openxmlformats.org/officeDocument/2006/relationships/slide" Target="slide82.xml"/><Relationship Id="rId8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cs1.mcm.edu/~awyatt/csc3315/bloom.htm" TargetMode="External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image" Target="../media/image9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3">
            <a:hlinkClick r:id="rId1" action="ppaction://hlinksldjump"/>
          </p:cNvPr>
          <p:cNvSpPr/>
          <p:nvPr/>
        </p:nvSpPr>
        <p:spPr>
          <a:xfrm>
            <a:off x="3643200" y="928800"/>
            <a:ext cx="857520" cy="857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4">
            <a:hlinkClick r:id="rId2" action="ppaction://hlinksldjump"/>
          </p:cNvPr>
          <p:cNvSpPr/>
          <p:nvPr/>
        </p:nvSpPr>
        <p:spPr>
          <a:xfrm>
            <a:off x="4429080" y="1714680"/>
            <a:ext cx="857160" cy="8571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5">
            <a:hlinkClick r:id="rId3" action="ppaction://hlinksldjump"/>
          </p:cNvPr>
          <p:cNvSpPr/>
          <p:nvPr/>
        </p:nvSpPr>
        <p:spPr>
          <a:xfrm>
            <a:off x="5286240" y="2571840"/>
            <a:ext cx="857520" cy="857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>
            <a:hlinkClick r:id="rId4" action="ppaction://hlinksldjump"/>
          </p:cNvPr>
          <p:cNvSpPr/>
          <p:nvPr/>
        </p:nvSpPr>
        <p:spPr>
          <a:xfrm>
            <a:off x="6143760" y="3429000"/>
            <a:ext cx="857160" cy="8571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>
            <a:hlinkClick r:id="rId5" action="ppaction://hlinksldjump"/>
          </p:cNvPr>
          <p:cNvSpPr/>
          <p:nvPr/>
        </p:nvSpPr>
        <p:spPr>
          <a:xfrm>
            <a:off x="7072200" y="4357800"/>
            <a:ext cx="857520" cy="8571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8">
            <a:hlinkClick r:id="rId6" action="ppaction://hlinksldjump"/>
          </p:cNvPr>
          <p:cNvSpPr/>
          <p:nvPr/>
        </p:nvSpPr>
        <p:spPr>
          <a:xfrm>
            <a:off x="7858080" y="5143680"/>
            <a:ext cx="857160" cy="85716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857160" y="1071720"/>
            <a:ext cx="28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Knowled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1500120" y="1928880"/>
            <a:ext cx="2857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Compreh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3071880" y="278604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4000680" y="364320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4714920" y="457200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Synth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5643720" y="535788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5"/>
          <p:cNvGrpSpPr/>
          <p:nvPr/>
        </p:nvGrpSpPr>
        <p:grpSpPr>
          <a:xfrm>
            <a:off x="214200" y="5429160"/>
            <a:ext cx="1357560" cy="1071720"/>
            <a:chOff x="214200" y="5429160"/>
            <a:chExt cx="1357560" cy="1071720"/>
          </a:xfrm>
        </p:grpSpPr>
        <p:sp>
          <p:nvSpPr>
            <p:cNvPr id="61" name="5-Point Star 13"/>
            <p:cNvSpPr/>
            <p:nvPr/>
          </p:nvSpPr>
          <p:spPr>
            <a:xfrm>
              <a:off x="214200" y="5429160"/>
              <a:ext cx="1357560" cy="1071720"/>
            </a:xfrm>
            <a:prstGeom prst="pie">
              <a:avLst/>
            </a:prstGeom>
            <a:solidFill>
              <a:srgbClr val="e6e0ec"/>
            </a:solidFill>
            <a:ln w="25560">
              <a:solidFill>
                <a:srgbClr val="b7de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4"/>
            <p:cNvSpPr/>
            <p:nvPr/>
          </p:nvSpPr>
          <p:spPr>
            <a:xfrm>
              <a:off x="500040" y="5786280"/>
              <a:ext cx="785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xample </a:t>
              </a:r>
              <a:r>
                <a:rPr b="0" lang="en-GB" sz="1200" spc="-1" strike="noStrike" u="sng">
                  <a:solidFill>
                    <a:srgbClr val="0000ff"/>
                  </a:solidFill>
                  <a:uFillTx/>
                  <a:latin typeface="Arial"/>
                  <a:hlinkClick r:id="rId7" action="ppaction://hlinksldjump"/>
                </a:rPr>
                <a:t>Product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List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708360" y="112536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0720" y="184464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2708280"/>
            <a:ext cx="6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7640" y="3573360"/>
            <a:ext cx="6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450864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56720" y="530064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404640"/>
            <a:ext cx="230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de by Mike Gershon – mikegershon@hot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an ord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range method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these factors in order of impor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would you order these concep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put these events in chronological ord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rt the cards into an order of impor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oose a concept and order the materi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Order.bmp"/>
          <p:cNvPicPr/>
          <p:nvPr/>
        </p:nvPicPr>
        <p:blipFill>
          <a:blip r:embed="rId1"/>
          <a:stretch/>
        </p:blipFill>
        <p:spPr>
          <a:xfrm>
            <a:off x="6659640" y="4076640"/>
            <a:ext cx="2479680" cy="27813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250920" y="692280"/>
            <a:ext cx="871380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Comprehens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t out or draw pictures to show a particular eve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ustrate what you think the main idea wa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cartoon strip showing the sequence of event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nd perform a play based on the stor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ell the story in your word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int a picture of some aspect you lik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summary report of an eve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e a flow chart to illustrate the sequence of event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colouring book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6516720" y="260280"/>
            <a:ext cx="2403360" cy="2025720"/>
          </a:xfrm>
          <a:prstGeom prst="rect">
            <a:avLst/>
          </a:prstGeom>
          <a:ln w="0">
            <a:noFill/>
          </a:ln>
        </p:spPr>
      </p:pic>
      <p:grpSp>
        <p:nvGrpSpPr>
          <p:cNvPr id="578" name=""/>
          <p:cNvGrpSpPr/>
          <p:nvPr/>
        </p:nvGrpSpPr>
        <p:grpSpPr>
          <a:xfrm>
            <a:off x="7308720" y="3933720"/>
            <a:ext cx="1224000" cy="1008000"/>
            <a:chOff x="7308720" y="3933720"/>
            <a:chExt cx="1224000" cy="1008000"/>
          </a:xfrm>
        </p:grpSpPr>
        <p:sp>
          <p:nvSpPr>
            <p:cNvPr id="579" name="Oval 3"/>
            <p:cNvSpPr/>
            <p:nvPr/>
          </p:nvSpPr>
          <p:spPr>
            <a:xfrm>
              <a:off x="7451640" y="3933720"/>
              <a:ext cx="936720" cy="1008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>
              <a:hlinkClick r:id="rId3" action="ppaction://hlinksldjump"/>
            </p:cNvPr>
            <p:cNvSpPr/>
            <p:nvPr/>
          </p:nvSpPr>
          <p:spPr>
            <a:xfrm>
              <a:off x="7308720" y="4149720"/>
              <a:ext cx="1224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ack to Comprehen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179280" y="333360"/>
            <a:ext cx="8713800" cy="60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Applica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uct a model to demonstrate how it will work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diorama to illustrate an important eve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scrapbook about the areas of stud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paper-mache map to include relevant information about an eve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 a collection of photographs to demonstrate a particular poi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up a puzzle game using the ideas from the study area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clay model of an item in the material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ess a doll in national costum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int a mural using the same material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textbook about... for oth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 market strategy for your product using a known strategy as a model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152360" cy="1727280"/>
          </a:xfrm>
          <a:prstGeom prst="rect">
            <a:avLst/>
          </a:prstGeom>
          <a:ln w="0">
            <a:noFill/>
          </a:ln>
        </p:spPr>
      </p:pic>
      <p:grpSp>
        <p:nvGrpSpPr>
          <p:cNvPr id="584" name=""/>
          <p:cNvGrpSpPr/>
          <p:nvPr/>
        </p:nvGrpSpPr>
        <p:grpSpPr>
          <a:xfrm>
            <a:off x="7308720" y="3789360"/>
            <a:ext cx="863640" cy="857160"/>
            <a:chOff x="7308720" y="3789360"/>
            <a:chExt cx="863640" cy="857160"/>
          </a:xfrm>
        </p:grpSpPr>
        <p:sp>
          <p:nvSpPr>
            <p:cNvPr id="585" name="Oval 3"/>
            <p:cNvSpPr/>
            <p:nvPr/>
          </p:nvSpPr>
          <p:spPr>
            <a:xfrm>
              <a:off x="7308720" y="3789360"/>
              <a:ext cx="857520" cy="857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>
              <a:hlinkClick r:id="rId3" action="ppaction://hlinksldjump"/>
            </p:cNvPr>
            <p:cNvSpPr/>
            <p:nvPr/>
          </p:nvSpPr>
          <p:spPr>
            <a:xfrm>
              <a:off x="7308720" y="4005360"/>
              <a:ext cx="863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turn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79280" y="189000"/>
            <a:ext cx="87138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Analysi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 questionnaire to gather informatio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commercial to sell a new produc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an investigation to produce information to support a view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flow chart to show the critical stage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uct a graph to illustrate selected informatio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jigsaw puzzl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family tree showing relationship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on a play about the study area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biography of the study perso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e a report about the area of stud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range a party. Make all the arrangements and record the steps needed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a work of art in terms of form, colour and tex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189000"/>
            <a:ext cx="1758960" cy="170496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7451640" y="3213000"/>
            <a:ext cx="1008000" cy="857520"/>
            <a:chOff x="7451640" y="3213000"/>
            <a:chExt cx="1008000" cy="857520"/>
          </a:xfrm>
        </p:grpSpPr>
        <p:sp>
          <p:nvSpPr>
            <p:cNvPr id="591" name="Oval 3"/>
            <p:cNvSpPr/>
            <p:nvPr/>
          </p:nvSpPr>
          <p:spPr>
            <a:xfrm>
              <a:off x="7524720" y="3213000"/>
              <a:ext cx="857160" cy="85752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>
              <a:hlinkClick r:id="rId4" action="ppaction://hlinksldjump"/>
            </p:cNvPr>
            <p:cNvSpPr/>
            <p:nvPr/>
          </p:nvSpPr>
          <p:spPr>
            <a:xfrm>
              <a:off x="7451640" y="3357720"/>
              <a:ext cx="1008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turn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50920" y="189000"/>
            <a:ext cx="8713800" cy="61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Synthesi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nt a machine to do a specific task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 building to house your stud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e a new product. Give it a name and plan a marketing campaig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bout your feelings in relation to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TV show, play, puppet show, role play, song or pantomime about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 record, book, or magazine cover for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up a new language code and write material suing i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l an idea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ise a way to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e a rhythm or put new words to a known melody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40720" y="189000"/>
            <a:ext cx="819000" cy="1730160"/>
          </a:xfrm>
          <a:prstGeom prst="rect">
            <a:avLst/>
          </a:prstGeom>
          <a:ln w="0">
            <a:noFill/>
          </a:ln>
        </p:spPr>
      </p:pic>
      <p:grpSp>
        <p:nvGrpSpPr>
          <p:cNvPr id="596" name=""/>
          <p:cNvGrpSpPr/>
          <p:nvPr/>
        </p:nvGrpSpPr>
        <p:grpSpPr>
          <a:xfrm>
            <a:off x="7740720" y="4437000"/>
            <a:ext cx="857160" cy="857160"/>
            <a:chOff x="7740720" y="4437000"/>
            <a:chExt cx="857160" cy="857160"/>
          </a:xfrm>
        </p:grpSpPr>
        <p:sp>
          <p:nvSpPr>
            <p:cNvPr id="597" name="Oval 3"/>
            <p:cNvSpPr/>
            <p:nvPr/>
          </p:nvSpPr>
          <p:spPr>
            <a:xfrm>
              <a:off x="7740720" y="4437000"/>
              <a:ext cx="857160" cy="857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>
              <a:hlinkClick r:id="rId4" action="ppaction://hlinksldjump"/>
            </p:cNvPr>
            <p:cNvSpPr/>
            <p:nvPr/>
          </p:nvSpPr>
          <p:spPr>
            <a:xfrm>
              <a:off x="7740720" y="4653000"/>
              <a:ext cx="7905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turn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ynth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50920" y="1197000"/>
            <a:ext cx="8713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Evalua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e a list of criteria to judge a ... show. Indicate priority and rating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a debate about an issue of special interes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booklet about 5 rules you see as important. Convince other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m a panel to discuss views, eg "Learning at School."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letter to ... advising on changes needed at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half yearly repor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e a case to present your view about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612800" cy="1819440"/>
          </a:xfrm>
          <a:prstGeom prst="rect">
            <a:avLst/>
          </a:prstGeom>
          <a:ln w="0">
            <a:noFill/>
          </a:ln>
        </p:spPr>
      </p:pic>
      <p:grpSp>
        <p:nvGrpSpPr>
          <p:cNvPr id="602" name=""/>
          <p:cNvGrpSpPr/>
          <p:nvPr/>
        </p:nvGrpSpPr>
        <p:grpSpPr>
          <a:xfrm>
            <a:off x="7236000" y="4581360"/>
            <a:ext cx="1150920" cy="857520"/>
            <a:chOff x="7236000" y="4581360"/>
            <a:chExt cx="1150920" cy="857520"/>
          </a:xfrm>
        </p:grpSpPr>
        <p:sp>
          <p:nvSpPr>
            <p:cNvPr id="603" name="Oval 3"/>
            <p:cNvSpPr/>
            <p:nvPr/>
          </p:nvSpPr>
          <p:spPr>
            <a:xfrm>
              <a:off x="7380360" y="4581360"/>
              <a:ext cx="857160" cy="857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>
              <a:hlinkClick r:id="rId4" action="ppaction://hlinksldjump"/>
            </p:cNvPr>
            <p:cNvSpPr/>
            <p:nvPr/>
          </p:nvSpPr>
          <p:spPr>
            <a:xfrm>
              <a:off x="7236000" y="4724280"/>
              <a:ext cx="11509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turn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valu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eneric Knowledge Question 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happened after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many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was it that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name the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cribe what happened at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spoke to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tell why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ind the meaning of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is true or false...?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eneric Comprehension Question 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write in your own words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write a brief outline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do you think could of happened next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do you think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was the main idea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was the key character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distinguish between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differences exist between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provide an example of what you mean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provide a definition for...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524720" y="6078600"/>
            <a:ext cx="1619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eneric Application Question 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 you know another instance where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uld this have happened in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group by characteristics such as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factors would you change if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apply the method used to some experience of your own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questions would you ask of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rom the information given, can you develop a set of instructions about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ould this information be useful if you had a ...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ic Analysis Question 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ich events could have happened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 ... happened, what might the ending have been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How was this similar to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was the underlying theme of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do you see as other possible outcomes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y did ... changes occur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n you compare your ... with that presented in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n you explain what must have happened when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How is ... similar to 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are some of the problems of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n you distinguish between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were some of the motives behind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was the turning point in the game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was the problem with...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ic Synthesis Question 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design a ... to 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y not compose a song about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see a possible solution to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you had access to all resources how would you deal with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y don't you devise your own way to deal with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would happen if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many ways can you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create new and unusual uses for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write a new recipe for a tasty dish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develop a proposal which would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o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peat or copy out (a passage or remark by another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peat a passage or remark fr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phrase would you quote from Barack Obama’s speec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repeat what the Prime Minister has just sai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py out the words of the council lea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d back to me what I have s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ten to your partner and then quote b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they s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Quote.jpg"/>
          <p:cNvPicPr/>
          <p:nvPr/>
        </p:nvPicPr>
        <p:blipFill>
          <a:blip r:embed="rId1"/>
          <a:stretch/>
        </p:blipFill>
        <p:spPr>
          <a:xfrm>
            <a:off x="6429240" y="5072040"/>
            <a:ext cx="2595600" cy="1639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ic Evaluation Question 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s there a better solution to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Judge the value of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defend your position about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 you think ... is a good or a bad thing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ould you have handled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changes to ... would you recommend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 you believe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re you a ... person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ould you feel if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effective are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 you think about...?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cogn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ntify as already known; know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words do you recognise from last less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allows you to recognise th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aw a picture containing all the words you kn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o you recognise this piece of music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’s th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Recognise.gif"/>
          <p:cNvPicPr/>
          <p:nvPr/>
        </p:nvPicPr>
        <p:blipFill>
          <a:blip r:embed="rId1"/>
          <a:stretch/>
        </p:blipFill>
        <p:spPr>
          <a:xfrm>
            <a:off x="6429240" y="4714920"/>
            <a:ext cx="2459160" cy="18604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c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1420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ember: recall knowledge from memory; have a re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lete the pop quiz from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o can tell us what we did last less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did we say power lies in politic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have we been studying this ter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you recall your earliest memory of citizen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Recall.bmp"/>
          <p:cNvPicPr/>
          <p:nvPr/>
        </p:nvPicPr>
        <p:blipFill>
          <a:blip r:embed="rId1"/>
          <a:stretch/>
        </p:blipFill>
        <p:spPr>
          <a:xfrm>
            <a:off x="7215120" y="4000680"/>
            <a:ext cx="1793880" cy="27255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pe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ay or do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atch what I do, then copy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isten to what I say, then repeat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everything your partner does with a 5 second del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did we just hea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repeat that excellent behaviou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Repeat.bmp"/>
          <p:cNvPicPr/>
          <p:nvPr/>
        </p:nvPicPr>
        <p:blipFill>
          <a:blip r:embed="rId1"/>
          <a:stretch/>
        </p:blipFill>
        <p:spPr>
          <a:xfrm>
            <a:off x="6643800" y="4357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oduce a copy or representation o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create in a different medium or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produce the model in simple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draw exactly what I have sai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vey the exact meaning of this in a different med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trace the ma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a permanent record of your piece of d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Reproduce.jpg"/>
          <p:cNvPicPr/>
          <p:nvPr/>
        </p:nvPicPr>
        <p:blipFill>
          <a:blip r:embed="rId1"/>
          <a:stretch/>
        </p:blipFill>
        <p:spPr>
          <a:xfrm>
            <a:off x="7215120" y="5286240"/>
            <a:ext cx="171468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ate again; to state differently; to reph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ke what Student A has said and put it in your own 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can you say that different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say that agai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say that more simp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ould you make that understandable to a Year 6 stud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Restate.jpg"/>
          <p:cNvPicPr/>
          <p:nvPr/>
        </p:nvPicPr>
        <p:blipFill>
          <a:blip r:embed="rId1"/>
          <a:stretch/>
        </p:blipFill>
        <p:spPr>
          <a:xfrm>
            <a:off x="6500880" y="4857840"/>
            <a:ext cx="2432160" cy="18144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t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tinue to have; keep possession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o over this until it sticks in your mind fore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could you ensure you remember th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 the mnemonic to retain the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rite an acronym allowing you to retain the knowl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vise th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Retain.jpg"/>
          <p:cNvPicPr/>
          <p:nvPr/>
        </p:nvPicPr>
        <p:blipFill>
          <a:blip r:embed="rId1"/>
          <a:stretch/>
        </p:blipFill>
        <p:spPr>
          <a:xfrm>
            <a:off x="7000920" y="4357800"/>
            <a:ext cx="2000160" cy="2500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reh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32000" y="169992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the action of understanding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the ability to underst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4000" y="3357720"/>
            <a:ext cx="8820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Character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lassify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Comple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Describe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Discu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Establis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Explain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Exp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Identif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Illu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Recogn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Report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Rel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Sor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Comprehens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Comprehension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racter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67720" indent="-567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distinctive character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features of a democrac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makes something ‘fair’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characterise ‘Britishness’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cribe the distinctive character of an ethical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ould you characterise a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ize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http://www.yopool.com/images/GUCAU0484-2.jpg"/>
          <p:cNvPicPr/>
          <p:nvPr/>
        </p:nvPicPr>
        <p:blipFill>
          <a:blip r:embed="rId1"/>
          <a:stretch/>
        </p:blipFill>
        <p:spPr>
          <a:xfrm>
            <a:off x="7643880" y="5357880"/>
            <a:ext cx="1349280" cy="13492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547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10920" y="2060640"/>
            <a:ext cx="80722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information and skills acquired through experience or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3645000"/>
            <a:ext cx="8280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rran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Def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Describ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Li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Memor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N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Or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Quo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Recogn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Recal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Repe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Reprodu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Rest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Re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Knowled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8" action="ppaction://hlinksldjump"/>
              </a:rPr>
              <a:t>Knowledg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lassif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53400" indent="-653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dentify by or divide into classes; to categor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rt the cards according to the 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which features are those of an autoc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de on categories and then classify the group according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would you classify th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lassifications could you use for th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http://www.education.vic.gov.au/images/content/studentlearning/l3classify2.jpg"/>
          <p:cNvPicPr/>
          <p:nvPr/>
        </p:nvPicPr>
        <p:blipFill>
          <a:blip r:embed="rId1"/>
          <a:stretch/>
        </p:blipFill>
        <p:spPr>
          <a:xfrm>
            <a:off x="7500960" y="5143680"/>
            <a:ext cx="1442880" cy="15523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4256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finish making or do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 the word f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nish the sto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ould you finish this speec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does this diagram need to be comple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there anything you think will complete the mod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http://www.bmlbss.com/imagelibrary/Help_Jigsaw.jpg"/>
          <p:cNvPicPr/>
          <p:nvPr/>
        </p:nvPicPr>
        <p:blipFill>
          <a:blip r:embed="rId1"/>
          <a:stretch/>
        </p:blipFill>
        <p:spPr>
          <a:xfrm>
            <a:off x="7429680" y="5000760"/>
            <a:ext cx="1585800" cy="15811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scri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a detailed account in words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the chain of events leading up to the G20 pro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describe chan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give a detailed account of the picture in 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cribe citizenship for a Year 6 aud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ould you describe your own identi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http://farm1.static.flickr.com/117/260004685_8d78d77db0.jpg"/>
          <p:cNvPicPr/>
          <p:nvPr/>
        </p:nvPicPr>
        <p:blipFill>
          <a:blip r:embed="rId1"/>
          <a:stretch/>
        </p:blipFill>
        <p:spPr>
          <a:xfrm>
            <a:off x="7143840" y="5072040"/>
            <a:ext cx="1825560" cy="15922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u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87520" indent="-58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alk about so as to reach a decis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alk or write about (a topic) in det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the picture in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n their ever be zero crime? Discu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a play showing parliamentary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cuss your ranking of the cards until you reach a consen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in threes the key points we n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successful le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http://farm2.static.flickr.com/1388/1041686914_90e500471e.jpg"/>
          <p:cNvPicPr/>
          <p:nvPr/>
        </p:nvPicPr>
        <p:blipFill>
          <a:blip r:embed="rId1"/>
          <a:stretch/>
        </p:blipFill>
        <p:spPr>
          <a:xfrm>
            <a:off x="7397640" y="5516640"/>
            <a:ext cx="1746360" cy="11635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stab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40080" indent="-640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verb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  show to be true or certain by determining the fa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us establish what we already know about this top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an you establish what your partner knows about thi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might we establish the truth in this ca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Here is the issue – you must determine the facts in order to establish what is tr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ect the facts you would use to establis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rtain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http://www.archives.gov.on.ca/english/on-line-exhibits/posters/pics/16145_re_establish_770.jpg"/>
          <p:cNvPicPr/>
          <p:nvPr/>
        </p:nvPicPr>
        <p:blipFill>
          <a:blip r:embed="rId1"/>
          <a:stretch/>
        </p:blipFill>
        <p:spPr>
          <a:xfrm>
            <a:off x="7799400" y="4870440"/>
            <a:ext cx="1344600" cy="19875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ake clear by giving a detailed descrip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ive a reason or justification f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can you show the difference between this and tha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xplain why you think th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explanations could their be for this pictur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an you give a reason for your answe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ain the history of the U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http://atomiq.org/archives/guerilla_gorilla.gif"/>
          <p:cNvPicPr/>
          <p:nvPr/>
        </p:nvPicPr>
        <p:blipFill>
          <a:blip r:embed="rId1"/>
          <a:stretch/>
        </p:blipFill>
        <p:spPr>
          <a:xfrm>
            <a:off x="6429240" y="4857840"/>
            <a:ext cx="2413080" cy="18288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1643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convey (a thought or feeling) in words or by gestures and cond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w your partner how that made you fe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a paragraph expressing your opinion on the death penal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es the film make you fe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does the image make you thi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ress your thoughts through m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http://www.mrtoys.com/lionel/pics/Lionel-The-Polar-Express-6-31960.jpg"/>
          <p:cNvPicPr/>
          <p:nvPr/>
        </p:nvPicPr>
        <p:blipFill>
          <a:blip r:embed="rId1"/>
          <a:srcRect l="0" t="0" r="0" b="17297"/>
          <a:stretch/>
        </p:blipFill>
        <p:spPr>
          <a:xfrm>
            <a:off x="7215120" y="5715000"/>
            <a:ext cx="1784520" cy="10000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dentif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stablish the identity of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cognize or select by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the words linked to poli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criteria would you give a Year 8 to help them identify the fac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the words most appropriate to persuasive 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identify the tone of this artic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are the legal term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http://heystupid.files.wordpress.com/2009/04/guess-who.jpg"/>
          <p:cNvPicPr/>
          <p:nvPr/>
        </p:nvPicPr>
        <p:blipFill>
          <a:blip r:embed="rId1"/>
          <a:stretch/>
        </p:blipFill>
        <p:spPr>
          <a:xfrm>
            <a:off x="6643800" y="5286240"/>
            <a:ext cx="2317680" cy="14796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llust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–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clear by using examples, chart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we illustrate this poi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llustrate this idea using physical theat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examples, charts and/or graphs to make the information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give me an example of th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how me what you me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http://static.guim.co.uk/sys-images/Guardian/Pix/arts/2002/09/30/128rolfdrawing.jpg"/>
          <p:cNvPicPr/>
          <p:nvPr/>
        </p:nvPicPr>
        <p:blipFill>
          <a:blip r:embed="rId1"/>
          <a:stretch/>
        </p:blipFill>
        <p:spPr>
          <a:xfrm>
            <a:off x="6858000" y="4643280"/>
            <a:ext cx="1933560" cy="19335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cogn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identify as already known; know aga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ircle what you already kn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Identify the elements we covered last less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at bits do you recogni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hat did you already know about today’s less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ow many of these faces do you recogni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http://www.optp.com/images/productimages/8661_medium.jpg"/>
          <p:cNvPicPr/>
          <p:nvPr/>
        </p:nvPicPr>
        <p:blipFill>
          <a:blip r:embed="rId1"/>
          <a:stretch/>
        </p:blipFill>
        <p:spPr>
          <a:xfrm>
            <a:off x="7000920" y="485784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r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ut in a particular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range these policies from most to least pop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ut these events in order of when they happe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i) What order do these elements of a court case go i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) Arrange the cards into the correct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rt the voting reform acts histor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Arrange.jpg"/>
          <p:cNvPicPr/>
          <p:nvPr/>
        </p:nvPicPr>
        <p:blipFill>
          <a:blip r:embed="rId1"/>
          <a:stretch/>
        </p:blipFill>
        <p:spPr>
          <a:xfrm>
            <a:off x="6300720" y="4581360"/>
            <a:ext cx="2533680" cy="2025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ive a spoken or written account of someth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onvey information about an event or situ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ad the article and then report back to you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report what you did for home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ll us what you did for your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duce a news report about human rights ab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happened? What did you d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http://www.oneroastchicken.com/images/special%20report1.jpg"/>
          <p:cNvPicPr/>
          <p:nvPr/>
        </p:nvPicPr>
        <p:blipFill>
          <a:blip r:embed="rId1"/>
          <a:stretch/>
        </p:blipFill>
        <p:spPr>
          <a:xfrm>
            <a:off x="7286760" y="4500720"/>
            <a:ext cx="1747800" cy="2253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600480" indent="-600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give an account o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at, when, where, who, wh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How did you get 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an you tell us how your grouped worked togethe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Relate to your partner your experiences in the lesson tod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oduce a piece of work relating you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earning on the topic to a newcom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o the scho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http://www.pinknews.co.uk/images/relate.jpg"/>
          <p:cNvPicPr/>
          <p:nvPr/>
        </p:nvPicPr>
        <p:blipFill>
          <a:blip r:embed="rId1"/>
          <a:stretch/>
        </p:blipFill>
        <p:spPr>
          <a:xfrm>
            <a:off x="7072200" y="4572000"/>
            <a:ext cx="1905120" cy="2286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rrange systematically in group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often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rt ou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separate from a mixed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lete the card s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rt the causes from the symp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rt the ideas into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ere should the factor group – into which grou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place this into the Venn diagra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http://www.woodentoystore.co.uk/images/51280%20Sort%20&amp;%20Count.jpg"/>
          <p:cNvPicPr/>
          <p:nvPr/>
        </p:nvPicPr>
        <p:blipFill>
          <a:blip r:embed="rId1"/>
          <a:stretch/>
        </p:blipFill>
        <p:spPr>
          <a:xfrm>
            <a:off x="7413480" y="5214960"/>
            <a:ext cx="1730520" cy="1384200"/>
          </a:xfrm>
          <a:prstGeom prst="rect">
            <a:avLst/>
          </a:prstGeom>
          <a:ln w="0">
            <a:noFill/>
          </a:ln>
        </p:spPr>
      </p:pic>
      <p:sp>
        <p:nvSpPr>
          <p:cNvPr id="22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ans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express the sense of (words or text) in another languag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ranslate into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convert or be converted into another form or med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ranslate the concept into a piece of dr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lay pictionary with your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ke a list of all you have lear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day then translate this into a Hai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n you draw the articl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urn today’s learning into a sho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nd snappy ch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http://www.squidsquid.com/images/squid_translate.png"/>
          <p:cNvPicPr/>
          <p:nvPr/>
        </p:nvPicPr>
        <p:blipFill>
          <a:blip r:embed="rId1"/>
          <a:stretch/>
        </p:blipFill>
        <p:spPr>
          <a:xfrm>
            <a:off x="4932360" y="3213000"/>
            <a:ext cx="3889440" cy="34894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4360" y="1773360"/>
            <a:ext cx="7500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the action of apply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                  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practical use or relev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79280" y="3429000"/>
            <a:ext cx="871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ppl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alcul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Choo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Demonst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Drama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Emplo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Imple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Interpre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Ope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Per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Pract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Role-Pla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Sket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Sol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Sugg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Applic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Application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ing into operation or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ply your learning to this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e what we have done today to negotiate a controversial 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ould you apply that idea to this instan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how me how you would apply your reasoning to a disagreement between police and protes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use your learning to answer the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http://www.beauty-advices.com/wp-content/uploads/2007/08/apply-mineral-foundation.jpg"/>
          <p:cNvPicPr/>
          <p:nvPr/>
        </p:nvPicPr>
        <p:blipFill>
          <a:blip r:embed="rId1"/>
          <a:stretch/>
        </p:blipFill>
        <p:spPr>
          <a:xfrm>
            <a:off x="7286760" y="4857840"/>
            <a:ext cx="1682640" cy="1834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lcu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determine (mathematical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What percentage of people voted for the Green Par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lculate the number of protestors in the crow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lose to the water supply was the oil refinery locat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calculate the trend rate of growth in the econom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many more people are unemployed this mont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http://www.iflmanagement.co.uk/images/calculate-flip.jpg"/>
          <p:cNvPicPr/>
          <p:nvPr/>
        </p:nvPicPr>
        <p:blipFill>
          <a:blip r:embed="rId1"/>
          <a:stretch/>
        </p:blipFill>
        <p:spPr>
          <a:xfrm>
            <a:off x="7072200" y="4786200"/>
            <a:ext cx="1819440" cy="19400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o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ick out as being the best of two or more alternatives.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decide on a course of ac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option would be the best for the judge to tak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hoose the most appropriate sentence for the cr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course would you tak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d the dilemma, make a list of possible responses in your group and then choose the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you think is b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ill you approach this project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der to meet the success criter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http://www.dcnr.state.pa.us/stateparks/hike/hike_images/hike_choose.gif"/>
          <p:cNvPicPr/>
          <p:nvPr/>
        </p:nvPicPr>
        <p:blipFill>
          <a:blip r:embed="rId1"/>
          <a:stretch/>
        </p:blipFill>
        <p:spPr>
          <a:xfrm>
            <a:off x="5786280" y="4621320"/>
            <a:ext cx="2984760" cy="20430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monst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571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learly show that (something) exists or is tru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ive a practical exhibition and explanation o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monstrate that gravity is a consta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demonstrate to the class that you are righ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show that tougher sentencing is good for socie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how us through drama how global warming 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demonstrate that you exi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http://upload.wikimedia.org/wikipedia/commons/6/68/London_anti-war_protest_banners.jpg"/>
          <p:cNvPicPr/>
          <p:nvPr/>
        </p:nvPicPr>
        <p:blipFill>
          <a:blip r:embed="rId1"/>
          <a:stretch/>
        </p:blipFill>
        <p:spPr>
          <a:xfrm>
            <a:off x="7500960" y="4714920"/>
            <a:ext cx="1519200" cy="202392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mat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resent as a play (as dram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Dramatise the flow of wealth through the econ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e drama to show how sustainable development 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the court transcript to present a play showing what happe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present the interplay of power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uthority and oppression through dram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urn the newspaper headline into a silent mov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" descr="http://www.monksparkschool.org.uk/_files/images/years/news_events/rewards_tr_79_feb_07_001.jpg"/>
          <p:cNvPicPr/>
          <p:nvPr/>
        </p:nvPicPr>
        <p:blipFill>
          <a:blip r:embed="rId1"/>
          <a:stretch/>
        </p:blipFill>
        <p:spPr>
          <a:xfrm>
            <a:off x="7215120" y="4357800"/>
            <a:ext cx="1768680" cy="23590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5280" y="14130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 or describe the exact nature or scope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 the meaning of (a word or phr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a definition of civil l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would you define ‘justice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meaning of responsibili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re do the limits of government power fal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es sustainability mea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Define.jpg"/>
          <p:cNvPicPr/>
          <p:nvPr/>
        </p:nvPicPr>
        <p:blipFill>
          <a:blip r:embed="rId1"/>
          <a:stretch/>
        </p:blipFill>
        <p:spPr>
          <a:xfrm>
            <a:off x="6804000" y="4749840"/>
            <a:ext cx="2212920" cy="199404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mplo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us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Can you employ that same reasoning on this diffe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bl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i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Use the formula to answer the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employ your rule in unusual situa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ke use of the information to solve 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prior knowledge and skills do you think w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ll employ in today’s less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7" descr="http://www.desmondgv.com/about/images/employ.gif"/>
          <p:cNvPicPr/>
          <p:nvPr/>
        </p:nvPicPr>
        <p:blipFill>
          <a:blip r:embed="rId1"/>
          <a:stretch/>
        </p:blipFill>
        <p:spPr>
          <a:xfrm>
            <a:off x="7286760" y="4962600"/>
            <a:ext cx="1760400" cy="18954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mpl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–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ut into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lement the changes to you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implement these ide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would you have to do to put these changes into effec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should the council implement its new education poli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re-write your essay with these chang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http://www.globalstudio.co.uk/images/content_implement.jpg"/>
          <p:cNvPicPr/>
          <p:nvPr/>
        </p:nvPicPr>
        <p:blipFill>
          <a:blip r:embed="rId1"/>
          <a:stretch/>
        </p:blipFill>
        <p:spPr>
          <a:xfrm>
            <a:off x="7215120" y="5264280"/>
            <a:ext cx="1790640" cy="15937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erpr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- 1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plain the meaning of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understand as having a particular meaning or significan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perform (a creative work) in a way that conveys one’s understanding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creator’s ide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ow your understanding of the story by interpreting it creative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would you interpret ‘change’ and ‘continuity’ to an ali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you interpret this diagram of the UN for a Year 7 audien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rite an article interpreting the convention for a populist readers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oryboard an advert that will allow viewers to understand the ra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http://www.uwsp.edu/cnr/etf/Interpret%20reader.jpg"/>
          <p:cNvPicPr/>
          <p:nvPr/>
        </p:nvPicPr>
        <p:blipFill>
          <a:blip r:embed="rId1"/>
          <a:stretch/>
        </p:blipFill>
        <p:spPr>
          <a:xfrm>
            <a:off x="7372440" y="4929120"/>
            <a:ext cx="1771560" cy="192888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pe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ontrol the functioning of (a machine or proces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with reference to an organization) mana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how me how you operate the dr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do you operate the dril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nage the time your group spends on each t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a minister have to operate in order to get a private member’s bill through parlia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would an effective UN Secretary 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? How would they opera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7" descr="http://www.shohola.com/museum/Welcome%20to%20the%20Shohola%20Museum%20of%20Communications%20and%20Technology_files/MCommTechArmyTelephone.jpg"/>
          <p:cNvPicPr/>
          <p:nvPr/>
        </p:nvPicPr>
        <p:blipFill>
          <a:blip r:embed="rId1"/>
          <a:stretch/>
        </p:blipFill>
        <p:spPr>
          <a:xfrm>
            <a:off x="6929280" y="514368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carry out, accomplish, or fulfil (an action, task, or function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rform an overhead kick from the edge of th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erform one of the pieces of oratory based on the success cri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carry out a cross-examin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accomplish a successful defence of you climate change bil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your group show us how ministers v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7" descr="http://therealsouthkorea.files.wordpress.com/2008/08/drummers-perform-during-the-opening-ceremony-for-the-2008-beijing-summer-olympics.jpg"/>
          <p:cNvPicPr/>
          <p:nvPr/>
        </p:nvPicPr>
        <p:blipFill>
          <a:blip r:embed="rId1"/>
          <a:stretch/>
        </p:blipFill>
        <p:spPr>
          <a:xfrm>
            <a:off x="7215120" y="5572080"/>
            <a:ext cx="1698840" cy="1131840"/>
          </a:xfrm>
          <a:prstGeom prst="rect">
            <a:avLst/>
          </a:prstGeom>
          <a:ln w="0">
            <a:noFill/>
          </a:ln>
        </p:spPr>
      </p:pic>
      <p:sp>
        <p:nvSpPr>
          <p:cNvPr id="29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act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perform (an activity) or exercise (a skill) repeatedly in order to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e or maintain proficiency in i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carry out or perform (an activity or custom) habitually or regular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actise that until you can do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ead a newspape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very day until it’s a hab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ercise your reasoning daily in order to improve your arg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Keep practising your speeches ready for the pres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 will be discussing again today so you can practise verb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as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7" descr="http://www.radenterprises.co.uk/images/Practise-Skirt-Lavender.jpg"/>
          <p:cNvPicPr/>
          <p:nvPr/>
        </p:nvPicPr>
        <p:blipFill>
          <a:blip r:embed="rId1"/>
          <a:stretch/>
        </p:blipFill>
        <p:spPr>
          <a:xfrm>
            <a:off x="7715160" y="4857840"/>
            <a:ext cx="1289160" cy="1825560"/>
          </a:xfrm>
          <a:prstGeom prst="rect">
            <a:avLst/>
          </a:prstGeom>
          <a:ln w="0">
            <a:noFill/>
          </a:ln>
        </p:spPr>
      </p:pic>
      <p:sp>
        <p:nvSpPr>
          <p:cNvPr id="29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ole-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ou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the acting out of a particular ro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the character cards to hot-seat in your grou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rite a protest letter in charac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act out the concept as a grou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oday we are going to do a mock t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rite a speech that Kofi Annan might give tomor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9" descr="http://www.moorestown.com/paragraph_images/1081.jpg"/>
          <p:cNvPicPr/>
          <p:nvPr/>
        </p:nvPicPr>
        <p:blipFill>
          <a:blip r:embed="rId1"/>
          <a:stretch/>
        </p:blipFill>
        <p:spPr>
          <a:xfrm>
            <a:off x="7643880" y="4714920"/>
            <a:ext cx="1338120" cy="2035080"/>
          </a:xfrm>
          <a:prstGeom prst="rect">
            <a:avLst/>
          </a:prstGeom>
          <a:ln w="0">
            <a:noFill/>
          </a:ln>
        </p:spPr>
      </p:pic>
      <p:sp>
        <p:nvSpPr>
          <p:cNvPr id="30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ket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make a sketch of.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ive a brief account or general outlin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sketch the main features of the criminal justice syst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ke a sketch of how the economy 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ive a brief account of how your group wor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give a general outline of your course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iefly, what is parliament and how does it func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http://www.drawmyface.co.uk/images/caricatures/simon-cowell-sketch.jpg"/>
          <p:cNvPicPr/>
          <p:nvPr/>
        </p:nvPicPr>
        <p:blipFill>
          <a:blip r:embed="rId1"/>
          <a:stretch/>
        </p:blipFill>
        <p:spPr>
          <a:xfrm>
            <a:off x="7313760" y="4384800"/>
            <a:ext cx="1619280" cy="233028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l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- find an answer to, explanation for, or way of dealing with (a problem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r myster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Here is your problem, you have 30 minutes to find a solution within the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arameters I have set y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would you have solved the problem of hyperinflation in Weimar German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find an answer to the problem of MPs expense claim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n the surface this appears a mystery – what explanation can you find in today’s lesson to solve i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famine is the problem, what is the solu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" descr="http://collateraldamage.files.wordpress.com/2007/12/rubikscube.jpg"/>
          <p:cNvPicPr/>
          <p:nvPr/>
        </p:nvPicPr>
        <p:blipFill>
          <a:blip r:embed="rId1"/>
          <a:stretch/>
        </p:blipFill>
        <p:spPr>
          <a:xfrm>
            <a:off x="6929280" y="4714920"/>
            <a:ext cx="1998720" cy="20192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gg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put forward for consid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ggest an alternative way of electing M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ut forward some ideas in your grou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suggest a way to improve our learning as a clas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alter the situation in Burm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deas do you have for changing the schoo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7" descr="http://ksjtracker.mit.edu/wp-content/uploads/2009/04/suggestion_box1.jpg"/>
          <p:cNvPicPr/>
          <p:nvPr/>
        </p:nvPicPr>
        <p:blipFill>
          <a:blip r:embed="rId1"/>
          <a:stretch/>
        </p:blipFill>
        <p:spPr>
          <a:xfrm>
            <a:off x="7364520" y="4929120"/>
            <a:ext cx="1779480" cy="17496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scri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a detailed account in words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the workings of local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cribe the process of formal deb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ould you describe presti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ve a detailed written account of the school counc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 a speech detailing your active citizenshi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Describe.jpg"/>
          <p:cNvPicPr/>
          <p:nvPr/>
        </p:nvPicPr>
        <p:blipFill>
          <a:blip r:embed="rId1"/>
          <a:stretch/>
        </p:blipFill>
        <p:spPr>
          <a:xfrm>
            <a:off x="7236000" y="4457880"/>
            <a:ext cx="1714320" cy="240012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68360" y="1700280"/>
            <a:ext cx="8143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 -    </a:t>
            </a: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a detailed examination of the elements or structure of somet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the separation of something into its constituent el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250920" y="3716280"/>
            <a:ext cx="889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naly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ra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Categoriz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Compa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Contr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Differenti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Discrimin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Distinguis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Exam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Explo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Investig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Ques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Resear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Analys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Analysis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a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examine in detail the elements or structure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criteria are used to determine a story’s position in the newspaper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ow is political power distributed in Englan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amine in detail the structure of the UDH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Analyse the wording of Barack Obama’s opening paragraph in his inauguration spee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r produce an analysis of the constraints on private individuals wishing to add a loft conversion to their terrace hou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7" descr="jdo0856l"/>
          <p:cNvPicPr/>
          <p:nvPr/>
        </p:nvPicPr>
        <p:blipFill>
          <a:blip r:embed="rId1"/>
          <a:stretch/>
        </p:blipFill>
        <p:spPr>
          <a:xfrm>
            <a:off x="6948360" y="4941720"/>
            <a:ext cx="2016360" cy="17910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ra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assess the quality or natur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sess the quality of your work in light of the success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at assessment would you make of the speaker’s argumen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offer us an appraisal of your partner’s strengths and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aknesses during the task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v)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f what quality is this sour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useful are these figures to us for helping to explain the increa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unemploym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7" descr="BF627-appraise"/>
          <p:cNvPicPr/>
          <p:nvPr/>
        </p:nvPicPr>
        <p:blipFill>
          <a:blip r:embed="rId1"/>
          <a:stretch/>
        </p:blipFill>
        <p:spPr>
          <a:xfrm>
            <a:off x="7667640" y="5589720"/>
            <a:ext cx="1219320" cy="1123920"/>
          </a:xfrm>
          <a:prstGeom prst="rect">
            <a:avLst/>
          </a:prstGeom>
          <a:ln w="0">
            <a:noFill/>
          </a:ln>
        </p:spPr>
      </p:pic>
      <p:sp>
        <p:nvSpPr>
          <p:cNvPr id="33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tegori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lace in a particular category; classif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ad the quotes and then classify them based o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hetorical devices they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tegorize the MP’s voting records for the coun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plain your reasoning for placing it in that categ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classify these items using the continuum from private to public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classify power sharing in the context of democratic processe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7" descr="THIN%20set%20of%20drawers%20EDITED"/>
          <p:cNvPicPr/>
          <p:nvPr/>
        </p:nvPicPr>
        <p:blipFill>
          <a:blip r:embed="rId1"/>
          <a:stretch/>
        </p:blipFill>
        <p:spPr>
          <a:xfrm>
            <a:off x="8028000" y="2421000"/>
            <a:ext cx="974880" cy="43210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often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pare to/with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estimate, measure, or note the similarity or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ssimilarity betwe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pare to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point out or describe the resemblances of (something) w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pare direct and representative democr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do these two images compa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similarities are there between monetary and fiscal polic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do rights differ from responsibiliti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duce a split-screen image showing a comparison of justice and fairnes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spot_the_difference"/>
          <p:cNvPicPr/>
          <p:nvPr/>
        </p:nvPicPr>
        <p:blipFill>
          <a:blip r:embed="rId1"/>
          <a:stretch/>
        </p:blipFill>
        <p:spPr>
          <a:xfrm>
            <a:off x="6732720" y="5445000"/>
            <a:ext cx="2162160" cy="11937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are so as to emphasize differ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highlight the differences between autocracy and democrac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mpare and contrast the perceptions of the manager and his employ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ould you describe the contrast he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raw a picture emphasising the differences between trust and loyal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does scientific thought contrast with religious though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7" descr="DQ-Tool_Contrast_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941720"/>
            <a:ext cx="2305080" cy="17370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>
            <a:hlinkClick r:id="rId3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fferenti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recognize or identify as different; distinguis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differentiate between fact and opinion in the artic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ifferentiate the speeches according to the mark sch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criteria do we need in order to differentiate these manifesto claim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identify the inconsistencies within the evidence – what parts are different from the re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of these does not fit and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7" descr="differentiate-yourself-from-the-crowd"/>
          <p:cNvPicPr/>
          <p:nvPr/>
        </p:nvPicPr>
        <p:blipFill>
          <a:blip r:embed="rId1"/>
          <a:stretch/>
        </p:blipFill>
        <p:spPr>
          <a:xfrm>
            <a:off x="7451640" y="5516640"/>
            <a:ext cx="1473120" cy="1177920"/>
          </a:xfrm>
          <a:prstGeom prst="rect">
            <a:avLst/>
          </a:prstGeom>
          <a:ln w="0">
            <a:noFill/>
          </a:ln>
        </p:spPr>
      </p:pic>
      <p:sp>
        <p:nvSpPr>
          <p:cNvPr id="35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rimin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recognize a disti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plain to us why there is a distinction between right and wr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ich of these is an example of civil law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are good, which ba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discriminate when faced with all this inform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are the key words in the ques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discriminate"/>
          <p:cNvPicPr/>
          <p:nvPr/>
        </p:nvPicPr>
        <p:blipFill>
          <a:blip r:embed="rId1"/>
          <a:stretch/>
        </p:blipFill>
        <p:spPr>
          <a:xfrm>
            <a:off x="7524720" y="5300640"/>
            <a:ext cx="1441440" cy="139068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tingu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recognize, show, or treat as differ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manage to discern (something barely percepti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istinguishes a liberal democ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differences can you distinguish between the two pieces of 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 we need to look for when distinguishing a civil case from a criminal c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how the problems inherent in this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cern the most appropriate course of 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rom the op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nashville"/>
          <p:cNvPicPr/>
          <p:nvPr/>
        </p:nvPicPr>
        <p:blipFill>
          <a:blip r:embed="rId1"/>
          <a:stretch/>
        </p:blipFill>
        <p:spPr>
          <a:xfrm>
            <a:off x="7093080" y="5589720"/>
            <a:ext cx="1873080" cy="1063440"/>
          </a:xfrm>
          <a:prstGeom prst="rect">
            <a:avLst/>
          </a:prstGeom>
          <a:ln w="0">
            <a:noFill/>
          </a:ln>
        </p:spPr>
      </p:pic>
      <p:sp>
        <p:nvSpPr>
          <p:cNvPr id="36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inspect closely to determine the nature or condition of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est the knowledge or proficiency of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amine the video bearing in mind the criteria we have devi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ine the different media to determine their relevance to our tas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would you look for when examining whether this statement is factually correc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condition is Britain’s political system i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 nature of human rights discour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examine"/>
          <p:cNvPicPr/>
          <p:nvPr/>
        </p:nvPicPr>
        <p:blipFill>
          <a:blip r:embed="rId1"/>
          <a:stretch/>
        </p:blipFill>
        <p:spPr>
          <a:xfrm>
            <a:off x="7236000" y="4797360"/>
            <a:ext cx="1736640" cy="1873440"/>
          </a:xfrm>
          <a:prstGeom prst="rect">
            <a:avLst/>
          </a:prstGeom>
          <a:ln w="0">
            <a:noFill/>
          </a:ln>
        </p:spPr>
      </p:pic>
      <p:sp>
        <p:nvSpPr>
          <p:cNvPr id="36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 list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t every MP in the House of Comm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aw up a list of issues most important to y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would be on a list of famous hero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factors would you write to make a list of reasons behind the collapse of the USS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a list of different ethnic backgrounds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sch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List.gif"/>
          <p:cNvPicPr/>
          <p:nvPr/>
        </p:nvPicPr>
        <p:blipFill>
          <a:blip r:embed="rId1"/>
          <a:stretch/>
        </p:blipFill>
        <p:spPr>
          <a:xfrm>
            <a:off x="7143840" y="4508640"/>
            <a:ext cx="1832040" cy="2152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erform a scientific experiment.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try out new th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ign an experiment to answer the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xperiment with the material until you find the best way to convey it to your aud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ould you use an experiment to prove the clai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experiment will tell us if CO2 emissions are ris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an experiment to consider the effects of introducing communism to a capitalist count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millers-experiment"/>
          <p:cNvPicPr/>
          <p:nvPr/>
        </p:nvPicPr>
        <p:blipFill>
          <a:blip r:embed="rId1"/>
          <a:stretch/>
        </p:blipFill>
        <p:spPr>
          <a:xfrm>
            <a:off x="6572160" y="5167440"/>
            <a:ext cx="2333880" cy="1508040"/>
          </a:xfrm>
          <a:prstGeom prst="rect">
            <a:avLst/>
          </a:prstGeom>
          <a:ln w="0">
            <a:noFill/>
          </a:ln>
        </p:spPr>
      </p:pic>
      <p:sp>
        <p:nvSpPr>
          <p:cNvPr id="37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ravel through (an unfamiliar area) in order to learn about 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inquire into or discuss in detai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evaluate (a new option or possibilit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examine or scrutinize by searching through or touch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 this time to explore the material prior to us discussing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an you explore your answer furth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ould a change in the cost of living affect t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plore the object and then tell us what it has to do with citizen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rite a paragraph exploring what it might be like to live in an LED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7" descr="exploreCovers08"/>
          <p:cNvPicPr/>
          <p:nvPr/>
        </p:nvPicPr>
        <p:blipFill>
          <a:blip r:embed="rId1"/>
          <a:stretch/>
        </p:blipFill>
        <p:spPr>
          <a:xfrm>
            <a:off x="7786800" y="5143680"/>
            <a:ext cx="1158840" cy="1514160"/>
          </a:xfrm>
          <a:prstGeom prst="rect">
            <a:avLst/>
          </a:prstGeom>
          <a:ln w="0">
            <a:noFill/>
          </a:ln>
        </p:spPr>
      </p:pic>
      <p:sp>
        <p:nvSpPr>
          <p:cNvPr id="37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vestig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carry out a systematic or formal inquiry into (an incident or allegation) so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s to establish the trut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carry out research into (a subject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make a search or systematic inquir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vestigate the legitimacy of the Daily Telegraph’s clai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hoose a topic you would like to investigate as an extended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you use reason or give evidence to push that analysis furth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would you find out why our school so ethnically divers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would you do to investigate the truth claims of the argu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" descr="investigate"/>
          <p:cNvPicPr/>
          <p:nvPr/>
        </p:nvPicPr>
        <p:blipFill>
          <a:blip r:embed="rId1"/>
          <a:stretch/>
        </p:blipFill>
        <p:spPr>
          <a:xfrm>
            <a:off x="7380360" y="4724280"/>
            <a:ext cx="1577880" cy="2016360"/>
          </a:xfrm>
          <a:prstGeom prst="rect">
            <a:avLst/>
          </a:prstGeom>
          <a:ln w="0">
            <a:noFill/>
          </a:ln>
        </p:spPr>
      </p:pic>
      <p:sp>
        <p:nvSpPr>
          <p:cNvPr id="38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sk questions of.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express doubt about; object 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ten to your partner’s argument and then produce a list of questions to 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y do we live in a democ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y are people poo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ll me why this might be untr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objections do you have to this interpretation of immigration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7" descr="question"/>
          <p:cNvPicPr/>
          <p:nvPr/>
        </p:nvPicPr>
        <p:blipFill>
          <a:blip r:embed="rId1"/>
          <a:stretch/>
        </p:blipFill>
        <p:spPr>
          <a:xfrm>
            <a:off x="8172360" y="4869000"/>
            <a:ext cx="822240" cy="1726920"/>
          </a:xfrm>
          <a:prstGeom prst="rect">
            <a:avLst/>
          </a:prstGeom>
          <a:ln w="0">
            <a:noFill/>
          </a:ln>
        </p:spPr>
      </p:pic>
      <p:sp>
        <p:nvSpPr>
          <p:cNvPr id="38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-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carry out research int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use research to discover or verify information to be presented in (a book,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gramme, etc.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research do you need to do in order to support your assertion that the world is a cub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can we verify if what a politician says is true or no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search the history of the 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roduce a report into the formation of the European Unio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ow us how to use the article in order to verify the podc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7" descr="research_front"/>
          <p:cNvPicPr/>
          <p:nvPr/>
        </p:nvPicPr>
        <p:blipFill>
          <a:blip r:embed="rId1"/>
          <a:stretch/>
        </p:blipFill>
        <p:spPr>
          <a:xfrm>
            <a:off x="6877080" y="5300640"/>
            <a:ext cx="2016000" cy="13557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subject to a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verbal reasoning to test your hypo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ould the theory of the trickle-down effect stand up to tes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might we test whether unemployment really is ris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 like your idea, what if we lived underwater – would it still 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k through the different scenarios with you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iginal moral position and note if it changes at 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7" descr="plate%20with%205"/>
          <p:cNvPicPr/>
          <p:nvPr/>
        </p:nvPicPr>
        <p:blipFill>
          <a:blip r:embed="rId1"/>
          <a:srcRect l="0" t="0" r="0" b="4159"/>
          <a:stretch/>
        </p:blipFill>
        <p:spPr>
          <a:xfrm>
            <a:off x="7451640" y="5229360"/>
            <a:ext cx="1441440" cy="1353960"/>
          </a:xfrm>
          <a:prstGeom prst="rect">
            <a:avLst/>
          </a:prstGeom>
          <a:ln w="0">
            <a:noFill/>
          </a:ln>
        </p:spPr>
      </p:pic>
      <p:sp>
        <p:nvSpPr>
          <p:cNvPr id="39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713880" y="1714680"/>
            <a:ext cx="7858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noun -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the combination of components to form a connected wh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214200" y="3500280"/>
            <a:ext cx="8572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Comb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o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Constru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Cre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Dev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Desig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Formul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Hypothes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Integ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Organ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Pla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Propo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Synthes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Synthes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Synthesis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b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join or mix together.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do or engage in simultaneous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bine three of the ideas we have come up with into an argume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an you find a way to join the two suggestions together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ow can we combine democratic accountability with strong governmen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an we combine free speech and public tolerance in our society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ub your stomach and pat your he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7" descr="COMBINE3"/>
          <p:cNvPicPr/>
          <p:nvPr/>
        </p:nvPicPr>
        <p:blipFill>
          <a:blip r:embed="rId1"/>
          <a:stretch/>
        </p:blipFill>
        <p:spPr>
          <a:xfrm>
            <a:off x="6588000" y="5013360"/>
            <a:ext cx="2448000" cy="17492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create (a work of art, especially music or poetry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arrange in an orderly or artistic wa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pose a song advocating equal pay for under-18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ake a painting or drawing expressing your opinions regarding human righ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put the key ideas from today’s lesson into a short poe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ow would you arrange these objects to conv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hat we have been discussin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)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rite 16 bars that will elicit sympathy in the view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7" descr="compose"/>
          <p:cNvPicPr/>
          <p:nvPr/>
        </p:nvPicPr>
        <p:blipFill>
          <a:blip r:embed="rId1"/>
          <a:stretch/>
        </p:blipFill>
        <p:spPr>
          <a:xfrm>
            <a:off x="6877080" y="4581360"/>
            <a:ext cx="2124000" cy="2159280"/>
          </a:xfrm>
          <a:prstGeom prst="rect">
            <a:avLst/>
          </a:prstGeom>
          <a:ln w="0">
            <a:noFill/>
          </a:ln>
        </p:spPr>
      </p:pic>
      <p:sp>
        <p:nvSpPr>
          <p:cNvPr id="41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stru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build or erect.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form (a theory) from various conceptual el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ake what we have talked about and build a theory of justice from 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an you theorise the class struggle from these sourc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struct an argument supporting your view that all oxen are laz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ow would you construct a defence of the government’s energy policy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can we build from what we already know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7" descr="construct"/>
          <p:cNvPicPr/>
          <p:nvPr/>
        </p:nvPicPr>
        <p:blipFill>
          <a:blip r:embed="rId1"/>
          <a:stretch/>
        </p:blipFill>
        <p:spPr>
          <a:xfrm>
            <a:off x="6588000" y="4941720"/>
            <a:ext cx="2305080" cy="17305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t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rrespond or cause to corresp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ch the word with the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tch the politician to the pa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match the causes with the effec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oup the words into corresponding pa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pictures correspond to one anoth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Match.gif"/>
          <p:cNvPicPr/>
          <p:nvPr/>
        </p:nvPicPr>
        <p:blipFill>
          <a:blip r:embed="rId1"/>
          <a:stretch/>
        </p:blipFill>
        <p:spPr>
          <a:xfrm>
            <a:off x="7020000" y="4448160"/>
            <a:ext cx="2124000" cy="24098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re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5712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bring into ex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reate a constitution for Brit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create something from noth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a presentation ‘selling’ your idea to the rest of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reate a new design for the Houses of Parlia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link can you make between the random word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7" descr="creative-recycled-furniture-designs"/>
          <p:cNvPicPr/>
          <p:nvPr/>
        </p:nvPicPr>
        <p:blipFill>
          <a:blip r:embed="rId1"/>
          <a:stretch/>
        </p:blipFill>
        <p:spPr>
          <a:xfrm>
            <a:off x="6948360" y="4797360"/>
            <a:ext cx="2016360" cy="1892520"/>
          </a:xfrm>
          <a:prstGeom prst="rect">
            <a:avLst/>
          </a:prstGeom>
          <a:ln w="0">
            <a:noFill/>
          </a:ln>
        </p:spPr>
      </p:pic>
      <p:sp>
        <p:nvSpPr>
          <p:cNvPr id="42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v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lan or in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vise a way to stop cr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nvent a solution to global war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plan a timetable of implementation for the constitutional chang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solutions can you devi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lan your project and how you intend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vercome obsta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7" descr="home-security-tips-2"/>
          <p:cNvPicPr/>
          <p:nvPr/>
        </p:nvPicPr>
        <p:blipFill>
          <a:blip r:embed="rId1"/>
          <a:stretch/>
        </p:blipFill>
        <p:spPr>
          <a:xfrm>
            <a:off x="6804000" y="4581360"/>
            <a:ext cx="2158920" cy="2136960"/>
          </a:xfrm>
          <a:prstGeom prst="rect">
            <a:avLst/>
          </a:prstGeom>
          <a:ln w="0">
            <a:noFill/>
          </a:ln>
        </p:spPr>
      </p:pic>
      <p:sp>
        <p:nvSpPr>
          <p:cNvPr id="42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conceive and produce a design for.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plan or intend for a purp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sign a road map for pe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hat would an alternative regulatory authority for the media look lik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you design a school council constitution that would take into account as many interests as possibl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n you conceive of a different solution? Produce a plan of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sign me a perpetual motion mach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7" descr="design-basel-07"/>
          <p:cNvPicPr/>
          <p:nvPr/>
        </p:nvPicPr>
        <p:blipFill>
          <a:blip r:embed="rId1"/>
          <a:stretch/>
        </p:blipFill>
        <p:spPr>
          <a:xfrm>
            <a:off x="6948360" y="5013360"/>
            <a:ext cx="2016360" cy="1711440"/>
          </a:xfrm>
          <a:prstGeom prst="rect">
            <a:avLst/>
          </a:prstGeom>
          <a:ln w="0">
            <a:noFill/>
          </a:ln>
        </p:spPr>
      </p:pic>
      <p:sp>
        <p:nvSpPr>
          <p:cNvPr id="43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rmu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create or prepare methodicall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express (an idea) in a concise or systematic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ormulate an argument in support of proportional repres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hat ideas can you formulate regarding where we should go nex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prepare a formula for sustainable livin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Develop your work until you can express it systematic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eep going over your work until you ca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ersuade the class as concisely as possi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7" descr="science"/>
          <p:cNvPicPr/>
          <p:nvPr/>
        </p:nvPicPr>
        <p:blipFill>
          <a:blip r:embed="rId1"/>
          <a:stretch/>
        </p:blipFill>
        <p:spPr>
          <a:xfrm>
            <a:off x="6588000" y="4724280"/>
            <a:ext cx="2448000" cy="1959120"/>
          </a:xfrm>
          <a:prstGeom prst="rect">
            <a:avLst/>
          </a:prstGeom>
          <a:ln w="0">
            <a:noFill/>
          </a:ln>
        </p:spPr>
      </p:pic>
      <p:sp>
        <p:nvSpPr>
          <p:cNvPr id="43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ypothes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ut forward as a hypo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you explain the MPs expenses scanda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would happen if citizenship education were made non-statutor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velop a hypothesis that can explain ine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rite a play showcasing a possible explanation f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edia panic over swine f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ll us what you think will happen tomor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7" descr="qmar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56720" y="3716280"/>
            <a:ext cx="869760" cy="2879640"/>
          </a:xfrm>
          <a:prstGeom prst="rect">
            <a:avLst/>
          </a:prstGeom>
          <a:ln w="0">
            <a:noFill/>
          </a:ln>
        </p:spPr>
      </p:pic>
      <p:sp>
        <p:nvSpPr>
          <p:cNvPr id="44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eg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42920" y="142884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combine or be combined to form a who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integrate fair trade with the desire to make mone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integrate effective social policy and the free mark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ke these different things we have discussed and combine them into a wh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conditions would we need in order to integrate successfully into the Eur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different cultures be integrated into a concept of ‘Britishness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7" descr="magoomla"/>
          <p:cNvPicPr/>
          <p:nvPr/>
        </p:nvPicPr>
        <p:blipFill>
          <a:blip r:embed="rId1"/>
          <a:stretch/>
        </p:blipFill>
        <p:spPr>
          <a:xfrm>
            <a:off x="7128000" y="484200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r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combine or be combined into a whol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blend gradually into something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erge these ideas together in your ess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rite a speech merging these persp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these perspectives be merged? If so, how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Join together with another group and merge your role-plays together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ow would you merge the three arguments of team B into one concluding statemen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7" descr="merge"/>
          <p:cNvPicPr/>
          <p:nvPr/>
        </p:nvPicPr>
        <p:blipFill>
          <a:blip r:embed="rId1"/>
          <a:stretch/>
        </p:blipFill>
        <p:spPr>
          <a:xfrm>
            <a:off x="7740720" y="544500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45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rgan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rrange systematically; ord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ganise your thoughts into a clear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organise a Middle East peace negoti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organise the aims of your projec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rganise the issues according to which you think are most pressing for the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a system to arrange the possible solutions to climate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7" descr="organiser_evenemen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5157720"/>
            <a:ext cx="2158920" cy="1555920"/>
          </a:xfrm>
          <a:prstGeom prst="rect">
            <a:avLst/>
          </a:prstGeom>
          <a:ln w="0">
            <a:noFill/>
          </a:ln>
        </p:spPr>
      </p:pic>
      <p:sp>
        <p:nvSpPr>
          <p:cNvPr id="45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decide on and arrange in adv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lan the next stage of your cours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raw a plan of how you will set the experiment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plan an answer to the questions you expect the opposing team to ask you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do you plan to raise awareness about your iss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cide who is doing what in your group and arrange everything so you are ready in adv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7" descr="seating_plan"/>
          <p:cNvPicPr/>
          <p:nvPr/>
        </p:nvPicPr>
        <p:blipFill>
          <a:blip r:embed="rId1"/>
          <a:stretch/>
        </p:blipFill>
        <p:spPr>
          <a:xfrm>
            <a:off x="7524720" y="5300640"/>
            <a:ext cx="1492200" cy="1403280"/>
          </a:xfrm>
          <a:prstGeom prst="rect">
            <a:avLst/>
          </a:prstGeom>
          <a:ln w="0">
            <a:noFill/>
          </a:ln>
        </p:spPr>
      </p:pic>
      <p:sp>
        <p:nvSpPr>
          <p:cNvPr id="46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ut forward (an idea or plan) for consideration by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pose a change to the way the school is 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can human rights be protected around the worl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deas do you have for judging the effectiveness of local councillo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pose a ‘fit and proper persons’ test for M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proposals would you make for improving yo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cal are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7" descr="propose_w"/>
          <p:cNvPicPr/>
          <p:nvPr/>
        </p:nvPicPr>
        <p:blipFill>
          <a:blip r:embed="rId1"/>
          <a:stretch/>
        </p:blipFill>
        <p:spPr>
          <a:xfrm>
            <a:off x="7667640" y="4869000"/>
            <a:ext cx="1311120" cy="17269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mor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8920" y="12682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earn by he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ise the history of Brit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remember these four pictures when I cover them u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ise these behaviour rules by r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a mnemonic to remember the colours of the rainb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learn these newspaper headlines off by hear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emorise.jpg"/>
          <p:cNvPicPr/>
          <p:nvPr/>
        </p:nvPicPr>
        <p:blipFill>
          <a:blip r:embed="rId1"/>
          <a:stretch/>
        </p:blipFill>
        <p:spPr>
          <a:xfrm>
            <a:off x="7236000" y="4581360"/>
            <a:ext cx="1749240" cy="21114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ynthes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28760" y="135720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ke by synthesis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mbine into a coherent who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rite an essay plan outlining all the ideas we have h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explain these concepts to a Year 7 class using dram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duce a newspaper article that makes sense of all the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would a poster that explained the UN and UDHR look lik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visualise a storyboard that comb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, civil and political rights into an intellig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le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7" descr="space-synthesizer"/>
          <p:cNvPicPr/>
          <p:nvPr/>
        </p:nvPicPr>
        <p:blipFill>
          <a:blip r:embed="rId1"/>
          <a:stretch/>
        </p:blipFill>
        <p:spPr>
          <a:xfrm>
            <a:off x="7093080" y="5300640"/>
            <a:ext cx="1873080" cy="1397160"/>
          </a:xfrm>
          <a:prstGeom prst="rect">
            <a:avLst/>
          </a:prstGeom>
          <a:ln w="0">
            <a:noFill/>
          </a:ln>
        </p:spPr>
      </p:pic>
      <p:sp>
        <p:nvSpPr>
          <p:cNvPr id="47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e or bring together for a common purpose or to form a wh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can we unite the concepts of justice and fairnes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at would a noise uniting hope and joy sound lik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would a painting uniting trust and pleasure look lik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ake two of the ideas regarding deregulation and weave an argument out of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urn the two statements into a story explain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peting views of friend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7" descr="unite-logo-782972"/>
          <p:cNvPicPr/>
          <p:nvPr/>
        </p:nvPicPr>
        <p:blipFill>
          <a:blip r:embed="rId1"/>
          <a:stretch/>
        </p:blipFill>
        <p:spPr>
          <a:xfrm>
            <a:off x="6929280" y="4199040"/>
            <a:ext cx="2079720" cy="2541600"/>
          </a:xfrm>
          <a:prstGeom prst="rect">
            <a:avLst/>
          </a:prstGeom>
          <a:ln w="0">
            <a:noFill/>
          </a:ln>
        </p:spPr>
      </p:pic>
      <p:sp>
        <p:nvSpPr>
          <p:cNvPr id="47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97160" y="1978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– an appraisal or judgement of the value of some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5"/>
          <p:cNvSpPr/>
          <p:nvPr/>
        </p:nvSpPr>
        <p:spPr>
          <a:xfrm>
            <a:off x="285840" y="3500280"/>
            <a:ext cx="842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ppra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rg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Ass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Critiq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Def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Evalu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Exam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Grad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Inspe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Ju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Justif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Ra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Revie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Evalu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Evaluation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ra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ssess the quality or natur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useful is this source to u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ould you advise me to teach this activity again?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this good? Under what measure of val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d your partner’s work and then tell them three good things about it and one area for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type of language is the dictator us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7" descr="BF627-appraise"/>
          <p:cNvPicPr/>
          <p:nvPr/>
        </p:nvPicPr>
        <p:blipFill>
          <a:blip r:embed="rId1"/>
          <a:stretch/>
        </p:blipFill>
        <p:spPr>
          <a:xfrm>
            <a:off x="7380360" y="5229360"/>
            <a:ext cx="1584360" cy="1460520"/>
          </a:xfrm>
          <a:prstGeom prst="rect">
            <a:avLst/>
          </a:prstGeom>
          <a:ln w="0">
            <a:noFill/>
          </a:ln>
        </p:spPr>
      </p:pic>
      <p:sp>
        <p:nvSpPr>
          <p:cNvPr id="49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give reasons or cite evidence in support of someth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can give us an argument against th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can you give us to support th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an essay arguing for or against the death penal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duce a radio advert that gives young people a reason to v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an argument from your own opin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he material around the roo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7" descr="argue1"/>
          <p:cNvPicPr/>
          <p:nvPr/>
        </p:nvPicPr>
        <p:blipFill>
          <a:blip r:embed="rId1"/>
          <a:stretch/>
        </p:blipFill>
        <p:spPr>
          <a:xfrm>
            <a:off x="6227640" y="4508640"/>
            <a:ext cx="2737080" cy="2181240"/>
          </a:xfrm>
          <a:prstGeom prst="rect">
            <a:avLst/>
          </a:prstGeom>
          <a:ln w="0">
            <a:noFill/>
          </a:ln>
        </p:spPr>
      </p:pic>
      <p:sp>
        <p:nvSpPr>
          <p:cNvPr id="49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ss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or estim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 likelihood of newspapers revealing their sourc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rk your work and set a target for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duce a report assessing the importance of freedom of information in a democratic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chances are there for the Kyoto Agreement proving a succes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we evaluate the impact of Gordon Br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 Prime Minist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krot9802"/>
          <p:cNvPicPr/>
          <p:nvPr/>
        </p:nvPicPr>
        <p:blipFill>
          <a:blip r:embed="rId1"/>
          <a:stretch/>
        </p:blipFill>
        <p:spPr>
          <a:xfrm>
            <a:off x="7215120" y="4857840"/>
            <a:ext cx="1835280" cy="1873080"/>
          </a:xfrm>
          <a:prstGeom prst="rect">
            <a:avLst/>
          </a:prstGeom>
          <a:ln w="0">
            <a:noFill/>
          </a:ln>
        </p:spPr>
      </p:pic>
      <p:sp>
        <p:nvSpPr>
          <p:cNvPr id="50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rit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evaluate in a detailed and analytical 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ritique the speech in the context of the manifes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offer us a critique of the fil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epare a Newsnight interview-style role-play critiquing the proposed introduction of ID c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rite an essay critiquing attitudes toward fail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critique media images of young people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7" descr="critique_005"/>
          <p:cNvPicPr/>
          <p:nvPr/>
        </p:nvPicPr>
        <p:blipFill>
          <a:blip r:embed="rId1"/>
          <a:srcRect l="0" t="0" r="6165" b="31156"/>
          <a:stretch/>
        </p:blipFill>
        <p:spPr>
          <a:xfrm>
            <a:off x="6877080" y="4724280"/>
            <a:ext cx="2152800" cy="2028960"/>
          </a:xfrm>
          <a:prstGeom prst="rect">
            <a:avLst/>
          </a:prstGeom>
          <a:ln w="0">
            <a:noFill/>
          </a:ln>
        </p:spPr>
      </p:pic>
      <p:sp>
        <p:nvSpPr>
          <p:cNvPr id="50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empt to justif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end your positio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magine there is no UDHR, Human Rights Act etc., how would you defend your right to freedom of speech, education etc.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justify MP expenditure on duck hous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end the proposition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you defend your contention that t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ld is made of play doug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defend"/>
          <p:cNvPicPr/>
          <p:nvPr/>
        </p:nvPicPr>
        <p:blipFill>
          <a:blip r:embed="rId1"/>
          <a:stretch/>
        </p:blipFill>
        <p:spPr>
          <a:xfrm>
            <a:off x="6924600" y="4552920"/>
            <a:ext cx="2219400" cy="2305080"/>
          </a:xfrm>
          <a:prstGeom prst="rect">
            <a:avLst/>
          </a:prstGeom>
          <a:ln w="0">
            <a:noFill/>
          </a:ln>
        </p:spPr>
      </p:pic>
      <p:sp>
        <p:nvSpPr>
          <p:cNvPr id="51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m an idea of the amount or value of; ass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useful is the sour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changes would you make to improve the White Pap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valuate the impact of government spending on educational achie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effective was the present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you think peacekeeping is a good or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d thing?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evaluate"/>
          <p:cNvPicPr/>
          <p:nvPr/>
        </p:nvPicPr>
        <p:blipFill>
          <a:blip r:embed="rId1"/>
          <a:stretch/>
        </p:blipFill>
        <p:spPr>
          <a:xfrm>
            <a:off x="7020000" y="4437000"/>
            <a:ext cx="2016000" cy="2305080"/>
          </a:xfrm>
          <a:prstGeom prst="rect">
            <a:avLst/>
          </a:prstGeom>
          <a:ln w="0">
            <a:noFill/>
          </a:ln>
        </p:spPr>
      </p:pic>
      <p:sp>
        <p:nvSpPr>
          <p:cNvPr id="51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inspect closely to determine the nature or condition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the judicial system founded on principles of care or justi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o has power in the U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democratic is schoo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xamine the source and determine its n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condition is the local environment i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examine"/>
          <p:cNvPicPr/>
          <p:nvPr/>
        </p:nvPicPr>
        <p:blipFill>
          <a:blip r:embed="rId1"/>
          <a:stretch/>
        </p:blipFill>
        <p:spPr>
          <a:xfrm>
            <a:off x="7537320" y="5130720"/>
            <a:ext cx="1606680" cy="17272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a name to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ntify or mention by name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ecify (a sum, time, or pla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 three LED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name all the components of democ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name would you give to a course promoting active citizen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dentify the parts of the dia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name of the Prime Minist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Name.jpg"/>
          <p:cNvPicPr/>
          <p:nvPr/>
        </p:nvPicPr>
        <p:blipFill>
          <a:blip r:embed="rId1"/>
          <a:stretch/>
        </p:blipFill>
        <p:spPr>
          <a:xfrm>
            <a:off x="6659640" y="4479840"/>
            <a:ext cx="2222280" cy="23781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range in or allocate to gr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he mark scheme to grade your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a mark scheme we could use to grade government behaviour in relation to democratic princi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ould you grade the impact of the Kyoto Protoco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ch policies have been effective, which not s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you grade the newspapers according to our ‘Tabloid Scandal’ sca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7" descr="ms-grade"/>
          <p:cNvPicPr/>
          <p:nvPr/>
        </p:nvPicPr>
        <p:blipFill>
          <a:blip r:embed="rId1"/>
          <a:stretch/>
        </p:blipFill>
        <p:spPr>
          <a:xfrm>
            <a:off x="7020000" y="5013360"/>
            <a:ext cx="2016000" cy="1733400"/>
          </a:xfrm>
          <a:prstGeom prst="rect">
            <a:avLst/>
          </a:prstGeom>
          <a:ln w="0">
            <a:noFill/>
          </a:ln>
        </p:spPr>
      </p:pic>
      <p:sp>
        <p:nvSpPr>
          <p:cNvPr id="52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sp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k at clos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really being said in this speech, ‘between the lines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key themes run through the UDH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does the language of the American constitution reflect its perceived cont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political messages and positions are underlying the performan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spect the picture for clues to its ori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7" descr="inspec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4797360"/>
            <a:ext cx="1657080" cy="1873440"/>
          </a:xfrm>
          <a:prstGeom prst="rect">
            <a:avLst/>
          </a:prstGeom>
          <a:ln w="0">
            <a:noFill/>
          </a:ln>
        </p:spPr>
      </p:pic>
      <p:sp>
        <p:nvSpPr>
          <p:cNvPr id="53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Ju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 an opinion ab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epare a list of criteria on which we should judge the presentations. Indicate priority and rat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Judge the value of OFCOM to the British 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your judgement regarding the c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judge which of these ideas will be of greater benefit to the communi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effective are ASBO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7" descr="ju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5516640"/>
            <a:ext cx="1584360" cy="1187280"/>
          </a:xfrm>
          <a:prstGeom prst="rect">
            <a:avLst/>
          </a:prstGeom>
          <a:ln w="0">
            <a:noFill/>
          </a:ln>
        </p:spPr>
      </p:pic>
      <p:sp>
        <p:nvSpPr>
          <p:cNvPr id="53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Justif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prove to be right or reason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defend your position on capital punish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e evidence to justify your arg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re to justify these claim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does the barrister attempt to justify the defendant’s ac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justification is there for accepting a certain level of unemployment as ‘inevitable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7" descr="33justify"/>
          <p:cNvPicPr/>
          <p:nvPr/>
        </p:nvPicPr>
        <p:blipFill>
          <a:blip r:embed="rId1"/>
          <a:stretch/>
        </p:blipFill>
        <p:spPr>
          <a:xfrm>
            <a:off x="6443640" y="5172120"/>
            <a:ext cx="2590920" cy="1685880"/>
          </a:xfrm>
          <a:prstGeom prst="rect">
            <a:avLst/>
          </a:prstGeom>
          <a:ln w="0">
            <a:noFill/>
          </a:ln>
        </p:spPr>
      </p:pic>
      <p:sp>
        <p:nvSpPr>
          <p:cNvPr id="54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ive (someone or something) a rank within a grading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nk the arguments in order of effica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Rank the pictures according to the level of b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ow would you order these images to fit the grading syste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an you use the assessment criteria to put the performances in order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lace the policy suggestions according to what extent they solve the problem we highligh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rank_7"/>
          <p:cNvPicPr/>
          <p:nvPr/>
        </p:nvPicPr>
        <p:blipFill>
          <a:blip r:embed="rId1"/>
          <a:stretch/>
        </p:blipFill>
        <p:spPr>
          <a:xfrm>
            <a:off x="7559640" y="5273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a standard or value to (something) according to a particular sc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duce a scale which could be used to rate the effectiveness of council poli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would you rate your performance in the assessm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ate these crimes in order of severity (by a scale, or implicitly through personal morality sca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ate the proposals based on our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do the sustainable development plans rate in relation to the requirements of Local Agenda 21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7" descr="Thumbs_Dow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37440" y="5880240"/>
            <a:ext cx="1006560" cy="9777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8" descr="Thumbs_Dow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9440" y="3573360"/>
            <a:ext cx="1114560" cy="11908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9" descr="Thumbs_Dow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112240" y="4797360"/>
            <a:ext cx="1031760" cy="1069920"/>
          </a:xfrm>
          <a:prstGeom prst="rect">
            <a:avLst/>
          </a:prstGeom>
          <a:ln w="0">
            <a:noFill/>
          </a:ln>
        </p:spPr>
      </p:pic>
      <p:sp>
        <p:nvSpPr>
          <p:cNvPr id="553" name="TextBox 7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ry out or write a review of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iew or inspect ag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ew your work and make the changes that will take it to the next gra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duce a literature revie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vide a synopsis of the 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at conclusions about the document have you come t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are your findings having reviewed the fil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7" descr="red"/>
          <p:cNvPicPr/>
          <p:nvPr/>
        </p:nvPicPr>
        <p:blipFill>
          <a:blip r:embed="rId1"/>
          <a:stretch/>
        </p:blipFill>
        <p:spPr>
          <a:xfrm>
            <a:off x="7020000" y="4724280"/>
            <a:ext cx="1873080" cy="1873440"/>
          </a:xfrm>
          <a:prstGeom prst="rect">
            <a:avLst/>
          </a:prstGeom>
          <a:ln w="0">
            <a:noFill/>
          </a:ln>
        </p:spPr>
      </p:pic>
      <p:sp>
        <p:nvSpPr>
          <p:cNvPr id="558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al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x or determine the value of; assign a value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 value of free trade to developing countri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determine the value of the criminal’s behaviou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effect has government policy had on unemploy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y was this a valuable learning experien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value would you assign to tolerance in a democ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8" descr="Value%20Quotes"/>
          <p:cNvPicPr/>
          <p:nvPr/>
        </p:nvPicPr>
        <p:blipFill>
          <a:blip r:embed="rId1"/>
          <a:stretch/>
        </p:blipFill>
        <p:spPr>
          <a:xfrm>
            <a:off x="6804000" y="4581360"/>
            <a:ext cx="2143080" cy="2136960"/>
          </a:xfrm>
          <a:prstGeom prst="rect">
            <a:avLst/>
          </a:prstGeom>
          <a:ln w="0">
            <a:noFill/>
          </a:ln>
        </p:spPr>
      </p:pic>
      <p:sp>
        <p:nvSpPr>
          <p:cNvPr id="563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250920" y="1025640"/>
          <a:ext cx="8893080" cy="5832360"/>
        </p:xfrm>
        <a:graphic>
          <a:graphicData uri="http://schemas.openxmlformats.org/drawingml/2006/table">
            <a:tbl>
              <a:tblPr/>
              <a:tblGrid>
                <a:gridCol w="2435040"/>
                <a:gridCol w="1992240"/>
                <a:gridCol w="1928880"/>
                <a:gridCol w="2536920"/>
              </a:tblGrid>
              <a:tr h="426960">
                <a:tc>
                  <a:txBody>
                    <a:bodyPr lIns="45720" rIns="45720" tIns="22680" bIns="22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5400"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emen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tated bibliograph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 galler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graph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prin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gam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k Cover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chure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letin board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 or board gam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g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on with illustrati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on with narrativ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c Strip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program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word puzzle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ate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ed illustrati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r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rama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ma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matic monologu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itorial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 Log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b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 fi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y ta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 tre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ssary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desig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ting card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lustrated stor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ed diagram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scale drawing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 to the editor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 drawing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zine artic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 with legend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sculpture Monograph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m exhibi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al compositi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 repor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phle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tern with instructions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essa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dictionary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cast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em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er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 fi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Point Presentati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Lis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ten repor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5" name="Text Box 18">
            <a:hlinkClick r:id="rId1" action="ppaction://hlinksldjump"/>
          </p:cNvPr>
          <p:cNvSpPr/>
          <p:nvPr/>
        </p:nvSpPr>
        <p:spPr>
          <a:xfrm>
            <a:off x="7885080" y="6093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7"/>
          <p:cNvSpPr/>
          <p:nvPr/>
        </p:nvSpPr>
        <p:spPr>
          <a:xfrm>
            <a:off x="1187280" y="6453360"/>
            <a:ext cx="59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Example Product list taken from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cs1.mcm.edu/~awyatt/csc3315/bloom.htm</a:t>
            </a:r>
            <a:r>
              <a:rPr b="0" lang="en-US" sz="1800" spc="-1" strike="noStrike">
                <a:solidFill>
                  <a:srgbClr val="558ed5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69" descr="title-products"/>
          <p:cNvPicPr/>
          <p:nvPr/>
        </p:nvPicPr>
        <p:blipFill>
          <a:blip r:embed="rId3"/>
          <a:srcRect l="0" t="0" r="0" b="8539"/>
          <a:stretch/>
        </p:blipFill>
        <p:spPr>
          <a:xfrm>
            <a:off x="6696000" y="115920"/>
            <a:ext cx="2448000" cy="1336680"/>
          </a:xfrm>
          <a:prstGeom prst="rect">
            <a:avLst/>
          </a:prstGeom>
          <a:ln w="0">
            <a:noFill/>
          </a:ln>
        </p:spPr>
      </p:pic>
      <p:sp>
        <p:nvSpPr>
          <p:cNvPr id="568" name="WordArt 70"/>
          <p:cNvSpPr txBox="1"/>
          <p:nvPr/>
        </p:nvSpPr>
        <p:spPr>
          <a:xfrm>
            <a:off x="179280" y="115920"/>
            <a:ext cx="619128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amples of less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roduc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50920" y="692280"/>
            <a:ext cx="871380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Knowledge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list of the main events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timeline of event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facts char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list of any pieces of information you can remember.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the .... in the stor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chart showing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n acrostic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ite a po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rcRect l="5764" t="0" r="7091" b="0"/>
          <a:stretch/>
        </p:blipFill>
        <p:spPr>
          <a:xfrm>
            <a:off x="6443640" y="260280"/>
            <a:ext cx="2517840" cy="2168640"/>
          </a:xfrm>
          <a:prstGeom prst="rect">
            <a:avLst/>
          </a:prstGeom>
          <a:ln w="0">
            <a:noFill/>
          </a:ln>
        </p:spPr>
      </p:pic>
      <p:grpSp>
        <p:nvGrpSpPr>
          <p:cNvPr id="572" name=""/>
          <p:cNvGrpSpPr/>
          <p:nvPr/>
        </p:nvGrpSpPr>
        <p:grpSpPr>
          <a:xfrm>
            <a:off x="7093080" y="4581360"/>
            <a:ext cx="1511280" cy="857520"/>
            <a:chOff x="7093080" y="4581360"/>
            <a:chExt cx="1511280" cy="857520"/>
          </a:xfrm>
        </p:grpSpPr>
        <p:sp>
          <p:nvSpPr>
            <p:cNvPr id="573" name="Oval 3">
              <a:hlinkClick r:id="rId3" action="ppaction://hlinksldjump"/>
            </p:cNvPr>
            <p:cNvSpPr/>
            <p:nvPr/>
          </p:nvSpPr>
          <p:spPr>
            <a:xfrm>
              <a:off x="7380360" y="4581360"/>
              <a:ext cx="928440" cy="857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93080" y="4653000"/>
              <a:ext cx="15112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ack t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8:34:34Z</dcterms:created>
  <dc:creator>Mike Gershon</dc:creator>
  <dc:description/>
  <dc:language>en-US</dc:language>
  <cp:lastModifiedBy>Shore</cp:lastModifiedBy>
  <dcterms:modified xsi:type="dcterms:W3CDTF">2009-08-25T03:28:35Z</dcterms:modified>
  <cp:revision>75</cp:revision>
  <dc:subject/>
  <dc:title>Knowledge</dc:title>
</cp:coreProperties>
</file>